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7767A-3094-4E81-AC26-730E7A67C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E75CF-D231-4671-9E9A-2EF686EB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E352A-1987-47D8-816F-98AFF4286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63B47-EDF4-4ACE-9D44-6CE644AB2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F2F3E-C97F-4A84-956E-D5ED50C42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6BD63-1D10-4426-BCE4-F45B9932B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07F54-DB65-46C3-83C2-086B82F43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E552A-B052-411C-AA7D-A13FEDAED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3456A-5322-47F4-9F9F-2420B51F0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9C9AA-5B8A-4245-B245-5562D0F95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0A131-A271-4B37-B875-CFA673A14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028D-4D37-4D56-9513-D165A532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9942E-39B3-429F-876C-23FFD4F20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03B46-59A1-46DE-A280-8DD475A5C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B75A2-8A8A-4BCD-B9EB-E5D8B7ADF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C7ACE-3AF9-4A1E-8BCE-61D94B8AC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75DF5-BEFC-4741-9F84-2067CD35D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FB3CB-0DD7-4D40-9DF3-974B97577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AD293-F252-40EF-9AA2-10F4A28E5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ACBA7-F928-496F-8856-4C139FD57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D36E9-B5CF-45FE-8578-70798B8A7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C44A-F700-486A-BEA1-AE7A4CA7A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EB24-CC88-4131-AB34-8201F6099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277F-C184-423A-BA42-B79B9CBFD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8DB8-D58E-493E-9998-57B426F8ABC4}" type="slidenum">
              <a:rPr b="0" lang="ru-RU" sz="1400" spc="-1" strike="noStrike">
                <a:solidFill>
                  <a:srgbClr val="000000"/>
                </a:solidFill>
                <a:latin typeface="Times New Roman"/>
              </a:rPr>
              <a:t>&lt;number&gt;</a:t>
            </a:fld>
            <a:endParaRPr b="1" lang="en-US" sz="1400" spc="-1" strike="noStrike">
              <a:solidFill>
                <a:srgbClr val="000000"/>
              </a:solidFill>
              <a:latin typeface="jsMath-cmbx10"/>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jsMath-cmbx10"/>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6FB1-35E0-4DB1-97A1-505F6C87D911}" type="slidenum">
              <a:rPr b="0" lang="ru-RU" sz="1400" spc="-1" strike="noStrike">
                <a:solidFill>
                  <a:srgbClr val="ffffff"/>
                </a:solidFill>
                <a:latin typeface="Times New Roman"/>
              </a:rPr>
              <a:t>&lt;number&gt;</a:t>
            </a:fld>
            <a:endParaRPr b="1" lang="en-US" sz="1400" spc="-1" strike="noStrike">
              <a:solidFill>
                <a:srgbClr val="000000"/>
              </a:solidFill>
              <a:latin typeface="jsMath-cmbx10"/>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2" descr="Рисунок19"/>
          <p:cNvPicPr/>
          <p:nvPr/>
        </p:nvPicPr>
        <p:blipFill>
          <a:blip r:embed="rId1"/>
          <a:stretch/>
        </p:blipFill>
        <p:spPr>
          <a:xfrm>
            <a:off x="6516720" y="3500280"/>
            <a:ext cx="2279520" cy="3024360"/>
          </a:xfrm>
          <a:prstGeom prst="rect">
            <a:avLst/>
          </a:prstGeom>
          <a:ln w="0">
            <a:noFill/>
          </a:ln>
        </p:spPr>
      </p:pic>
      <p:sp>
        <p:nvSpPr>
          <p:cNvPr id="121" name="PlaceHolder 1"/>
          <p:cNvSpPr>
            <a:spLocks noGrp="1"/>
          </p:cNvSpPr>
          <p:nvPr>
            <p:ph type="title"/>
          </p:nvPr>
        </p:nvSpPr>
        <p:spPr>
          <a:xfrm rot="10800000">
            <a:off x="395280" y="259200"/>
            <a:ext cx="829152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22" name="PlaceHolder 2"/>
          <p:cNvSpPr>
            <a:spLocks noGrp="1"/>
          </p:cNvSpPr>
          <p:nvPr>
            <p:ph/>
          </p:nvPr>
        </p:nvSpPr>
        <p:spPr>
          <a:xfrm>
            <a:off x="539280" y="691920"/>
            <a:ext cx="40388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3" name="Rectangle 13"/>
          <p:cNvSpPr/>
          <p:nvPr/>
        </p:nvSpPr>
        <p:spPr>
          <a:xfrm>
            <a:off x="468360" y="836640"/>
            <a:ext cx="82803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jsMath-cmbx10"/>
              </a:rPr>
              <a:t>Здоровьесберегающая        среда  в     учебно-воспитательном процессе</a:t>
            </a:r>
            <a:br>
              <a:rPr sz="4400"/>
            </a:br>
            <a:endParaRPr b="1" lang="en-US" sz="4400" spc="-1" strike="noStrike">
              <a:solidFill>
                <a:srgbClr val="ffffff"/>
              </a:solidFill>
              <a:latin typeface="jsMath-cmbx10"/>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3" name="PlaceHolder 2"/>
          <p:cNvSpPr>
            <a:spLocks noGrp="1"/>
          </p:cNvSpPr>
          <p:nvPr>
            <p:ph/>
          </p:nvPr>
        </p:nvSpPr>
        <p:spPr>
          <a:xfrm>
            <a:off x="0" y="0"/>
            <a:ext cx="884088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Различными исследованиями доказано,что сам учебный процесс, его содержание, способы обучения и формы организации деятельности могут являться источником отрицательного воздействия на здоровье детей.       Успешность обучения в школе определяется уровнем состояния здоровья, с которым ребёнок пришёл в школу, что является исходным фоном на старте обучения.На этом фоне в дальнейшем не менее важна и правильная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рганизация учебной деятельности.</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бщеизвестно, что мотивы познавательного характера, с которыми дети пришли в школу, имеют важное значение для организации учебного процесса, поскольку они помогают ребёнку быстро осваивать то, что ему интересно. Поэтому не случайно цель начальной школы звучит как развитие устойчивого интереса к «стране знаний». И здороваье учащихся играет здесь не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последнюю рол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468000" cy="17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5" name="PlaceHolder 2"/>
          <p:cNvSpPr>
            <a:spLocks noGrp="1"/>
          </p:cNvSpPr>
          <p:nvPr>
            <p:ph/>
          </p:nvPr>
        </p:nvSpPr>
        <p:spPr>
          <a:xfrm>
            <a:off x="0" y="549360"/>
            <a:ext cx="9144000" cy="7100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Только при правильной организации учебной деятельности (строгое соблюдение режима школьных занятий, построение урока с учётом работоспособности детей, использование средств наглядности; обязательное выполнение гигиенических требований, благоприятный эмоциональный настрой и т.д.) возможно решение одной из задач здоровьесберегающей педагогики- сохранение высокой работоспособности, исключение переутомления учащихс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7" name="PlaceHolder 2"/>
          <p:cNvSpPr>
            <a:spLocks noGrp="1"/>
          </p:cNvSpPr>
          <p:nvPr>
            <p:ph/>
          </p:nvPr>
        </p:nvSpPr>
        <p:spPr>
          <a:xfrm>
            <a:off x="0" y="259920"/>
            <a:ext cx="8820000" cy="659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i="1" lang="ru-RU" sz="3200" spc="-1" strike="noStrike">
                <a:solidFill>
                  <a:srgbClr val="ffffff"/>
                </a:solidFill>
                <a:latin typeface="Times New Roman"/>
              </a:rPr>
              <a:t>Умственная работоспособность-</a:t>
            </a:r>
            <a:r>
              <a:rPr b="0" lang="ru-RU" sz="3200" spc="-1" strike="noStrike">
                <a:solidFill>
                  <a:srgbClr val="ffffff"/>
                </a:solidFill>
                <a:latin typeface="Times New Roman"/>
              </a:rPr>
              <a:t> это возможность ребёнка продуктивно и длительно выполнять определённую умственную деятельность, доступную его возрасту, при экономных нервно-физиологических затратах: </a:t>
            </a:r>
            <a:r>
              <a:rPr b="0" i="1" lang="ru-RU" sz="3200" spc="-1" strike="noStrike">
                <a:solidFill>
                  <a:srgbClr val="ffffff"/>
                </a:solidFill>
                <a:latin typeface="Times New Roman"/>
              </a:rPr>
              <a:t>это одно из важных условий успешного обучения в школ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 целью повышения уровня учебно-воспитательного процесса необходимо постоянно изменять условия организации на уроках, проводить физминутки, а в содержание учебного материала больш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носить игровых ситуаций.</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9"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Игры с активным физическим компонентом позволяют решить целый комплекс важных вопросов в работе с учащимися: удовлетворить их потребность в движении и стабилизировать эмоции, научить владеть своим телом, развить не только физические, но и умственные и творческие способности.</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Двигательная деятельность игрового характера и вызываемые ею положительные эмоции усиливают физиологические процессы в организме и улучшают работу всех органов и систе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Положительное влияние игр не только на развитие физических качеств детей, но и на формирование структурных единиц психики: памяти -слуховой, зрительной; воображения_ творческого, оригинальности решения задач; восприятия -развитие наблюдательности, объёма и адекватности воспроизведения; наглядно-образного и логического мышления; произвольного внимания.</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51" name="PlaceHolder 2"/>
          <p:cNvSpPr>
            <a:spLocks noGrp="1"/>
          </p:cNvSpPr>
          <p:nvPr>
            <p:ph/>
          </p:nvPr>
        </p:nvSpPr>
        <p:spPr>
          <a:xfrm>
            <a:off x="0" y="-387360"/>
            <a:ext cx="9144000" cy="7245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Кратковременные физические упражнения и игры, вызывая возбуждение других участков мозга, усиливают кровообращение и создают возможность для отдыха участков, находившихся в раздражённом состоянии во время учебных занятий. После такого короткого активного отдыха внимание детей повышается, восприятие учебного материала улучшается. Движения для игр-физкультминуток подбираю так, чтобы по своему характеру они были противоположны положению туловища, рук, ног, головы, детей во время урока и снимали застойные явления.</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 </a:t>
            </a:r>
            <a:r>
              <a:rPr b="1" lang="ru-RU" sz="4000" spc="-1" strike="noStrike">
                <a:solidFill>
                  <a:srgbClr val="feec94"/>
                </a:solidFill>
                <a:latin typeface="Times New Roman"/>
              </a:rPr>
              <a:t>Виды физической активности:</a:t>
            </a:r>
            <a:endParaRPr b="1" lang="en-US" sz="4000" spc="-1" strike="noStrike">
              <a:solidFill>
                <a:srgbClr val="feec94"/>
              </a:solidFill>
              <a:latin typeface="Times New Roman"/>
            </a:endParaRPr>
          </a:p>
        </p:txBody>
      </p:sp>
      <p:sp>
        <p:nvSpPr>
          <p:cNvPr id="153" name="PlaceHolder 2"/>
          <p:cNvSpPr>
            <a:spLocks noGrp="1"/>
          </p:cNvSpPr>
          <p:nvPr>
            <p:ph/>
          </p:nvPr>
        </p:nvSpPr>
        <p:spPr>
          <a:xfrm>
            <a:off x="395280" y="1988640"/>
            <a:ext cx="8229600" cy="2189160"/>
          </a:xfrm>
          <a:prstGeom prst="rect">
            <a:avLst/>
          </a:prstGeom>
          <a:noFill/>
          <a:ln w="0">
            <a:noFill/>
          </a:ln>
        </p:spPr>
        <p:txBody>
          <a:bodyPr anchor="t">
            <a:normAutofit fontScale="85000"/>
          </a:bodyPr>
          <a:p>
            <a:pPr marL="291600" indent="-291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гры и игровые упражнения для снятия утомления органов зрения;</a:t>
            </a:r>
            <a:endParaRPr b="0" lang="en-US" sz="2800" spc="-1" strike="noStrike">
              <a:solidFill>
                <a:srgbClr val="ffffff"/>
              </a:solidFill>
              <a:latin typeface="Times New Roman"/>
            </a:endParaRPr>
          </a:p>
          <a:p>
            <a:pPr marL="291600" indent="-291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гры и игровые упражнения для снятия напряжения мышц кисти;</a:t>
            </a:r>
            <a:endParaRPr b="0" lang="en-US" sz="2800" spc="-1" strike="noStrike">
              <a:solidFill>
                <a:srgbClr val="ffffff"/>
              </a:solidFill>
              <a:latin typeface="Times New Roman"/>
            </a:endParaRPr>
          </a:p>
          <a:p>
            <a:pPr marL="291600" indent="-291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гры и игровые упражнения для снятия общего утомления;</a:t>
            </a:r>
            <a:endParaRPr b="0" lang="en-US" sz="2800" spc="-1" strike="noStrike">
              <a:solidFill>
                <a:srgbClr val="ffffff"/>
              </a:solidFill>
              <a:latin typeface="Times New Roman"/>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4" name="Picture 7" descr="Рисунок16"/>
          <p:cNvPicPr/>
          <p:nvPr/>
        </p:nvPicPr>
        <p:blipFill>
          <a:blip r:embed="rId1"/>
          <a:stretch/>
        </p:blipFill>
        <p:spPr>
          <a:xfrm>
            <a:off x="7524720" y="4005360"/>
            <a:ext cx="1297080" cy="25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56"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ажнейшей особенностью учебных занятий в ОУ 21 века является использование здоровьесберегающих педагогических технологий (ЗСПТ).</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i="1" lang="ru-RU" sz="2800" spc="-1" strike="noStrike">
                <a:solidFill>
                  <a:srgbClr val="ffffff"/>
                </a:solidFill>
                <a:latin typeface="Times New Roman"/>
              </a:rPr>
              <a:t>Основными особенностями этих ПТ является:</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0" i="1" lang="ru-RU" sz="2800" spc="-1" strike="noStrike">
                <a:solidFill>
                  <a:srgbClr val="ffffff"/>
                </a:solidFill>
                <a:latin typeface="Times New Roman"/>
              </a:rPr>
              <a:t>1. Субъект-субъектное обучение. Отношения «учитель-ученик» определяются гуманно-личностным подходом «любить», понимать, прини-   мать, помогать.</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0" i="1" lang="ru-RU" sz="2800" spc="-1" strike="noStrike">
                <a:solidFill>
                  <a:srgbClr val="ffffff"/>
                </a:solidFill>
                <a:latin typeface="Times New Roman"/>
              </a:rPr>
              <a:t>2. Глубокая диагностика личности ребёнка как основа её формирования и развития</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0" i="1" lang="ru-RU" sz="2800" spc="-1" strike="noStrike">
                <a:solidFill>
                  <a:srgbClr val="ffffff"/>
                </a:solidFill>
                <a:latin typeface="Times New Roman"/>
              </a:rPr>
              <a:t>3. Признание ценности здоровья и ЗОЖ детьми и педагогами приоритетным перед образованием.</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i="1" lang="ru-RU" sz="2800" spc="-1" strike="noStrike">
                <a:solidFill>
                  <a:srgbClr val="ffffff"/>
                </a:solidFill>
                <a:latin typeface="Times New Roman"/>
              </a:rPr>
              <a:t>4. Оптимизация учебно-воспитательного процесса, т. е. достижение успешности при минимальных затратах времени, сил и средств учащихся при сохранении их здоровья.</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58"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Начальное обучение может быть эффективным,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направленным на становление личности ребёнка,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раскрытие его способностей только в том случае, если оно исходит из максимально точного учёта общих возрастных и индивидуальных психологических особенностей детей в этот период жизни.</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Таким образом, реализация приоритетных целей обучения в сегодняшних условиях - это решение проблемы дифференциации обучения.</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i="1" lang="ru-RU" sz="2800" spc="-1" strike="noStrike">
                <a:solidFill>
                  <a:srgbClr val="ffffff"/>
                </a:solidFill>
                <a:latin typeface="Times New Roman"/>
              </a:rPr>
              <a:t>Дифференциация</a:t>
            </a:r>
            <a:r>
              <a:rPr b="0" lang="ru-RU" sz="2800" spc="-1" strike="noStrike">
                <a:solidFill>
                  <a:srgbClr val="ffffff"/>
                </a:solidFill>
                <a:latin typeface="Times New Roman"/>
              </a:rPr>
              <a:t>- это распределение заданий по уровням сложности. В основе распределения учеников на группы лежит успеваемость, которая является результатом этих особенносте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60" name="PlaceHolder 2"/>
          <p:cNvSpPr>
            <a:spLocks noGrp="1"/>
          </p:cNvSpPr>
          <p:nvPr>
            <p:ph/>
          </p:nvPr>
        </p:nvSpPr>
        <p:spPr>
          <a:xfrm>
            <a:off x="0" y="-458640"/>
            <a:ext cx="9144000" cy="73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Характерной особенностью имеющихся  пособий является то, что реализация принципа дифференцированного подхода все они предполагают либо на этапе закрепления материала, либо на этапе проверки усвоения.</a:t>
            </a:r>
            <a:r>
              <a:rPr b="0" i="1" lang="ru-RU" sz="3200" spc="-1" strike="noStrike">
                <a:solidFill>
                  <a:srgbClr val="ffffff"/>
                </a:solidFill>
                <a:latin typeface="Times New Roman"/>
              </a:rPr>
              <a:t> Изначальная их цель – контроль усвоения, контроль результата,  а не помощь ребёнку в усвоении материал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 своей работе я использую разноуровневую помощь, т. е. одно и то же задание, адресованное разным ученикам, может сопровождаться различными »подсказками», помогающим ребёнку справиться с заданием.</a:t>
            </a: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Наша школа с 2001 года работает над темой «Использование здоровьесберегающих технологий в целях создания условий для сохранения и укрепления зоровья детей и их успешного развития». С октября 2003 года на базе школы стала работать экспериментальная площадк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Свою работу в этом направлении я начала с диагностики «Здоровье учащихся в режиме школы». Предложила учащимся заполнить анкету «Моё здоровье».Результаты анкетирования свидетельствуют о низком уровне валеологической грамотности.</a:t>
            </a:r>
            <a:endParaRPr b="0" lang="en-US" sz="2800" spc="-1" strike="noStrike">
              <a:solidFill>
                <a:srgbClr val="ffffff"/>
              </a:solidFill>
              <a:latin typeface="Times New Roman"/>
            </a:endParaRPr>
          </a:p>
        </p:txBody>
      </p:sp>
      <p:sp>
        <p:nvSpPr>
          <p:cNvPr id="162" name="PlaceHolder 2"/>
          <p:cNvSpPr>
            <a:spLocks noGrp="1"/>
          </p:cNvSpPr>
          <p:nvPr>
            <p:ph type="title"/>
          </p:nvPr>
        </p:nvSpPr>
        <p:spPr>
          <a:xfrm>
            <a:off x="468000" y="-532080"/>
            <a:ext cx="8364600" cy="26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eec94"/>
                </a:solidFill>
                <a:latin typeface="Times New Roman"/>
              </a:rPr>
              <a:t>Судите о своём здоровье по тому,  как вы радуетесь утру и весне.</a:t>
            </a:r>
            <a:br>
              <a:rPr sz="3200"/>
            </a:br>
            <a:r>
              <a:rPr b="1" lang="ru-RU" sz="3200" spc="-1" strike="noStrike">
                <a:solidFill>
                  <a:srgbClr val="feec94"/>
                </a:solidFill>
                <a:latin typeface="Times New Roman"/>
              </a:rPr>
              <a:t>                                           (  Г. Торо)</a:t>
            </a:r>
            <a:endParaRPr b="1" lang="en-US" sz="32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04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          </a:t>
            </a:r>
            <a:br>
              <a:rPr sz="4000"/>
            </a:br>
            <a:r>
              <a:rPr b="1" lang="ru-RU" sz="4000" spc="-1" strike="noStrike">
                <a:solidFill>
                  <a:srgbClr val="feec94"/>
                </a:solidFill>
                <a:latin typeface="Times New Roman"/>
              </a:rPr>
              <a:t>          </a:t>
            </a:r>
            <a:br>
              <a:rPr sz="4000"/>
            </a:br>
            <a:r>
              <a:rPr b="1" lang="ru-RU" sz="4000" spc="-1" strike="noStrike">
                <a:solidFill>
                  <a:srgbClr val="feec94"/>
                </a:solidFill>
                <a:latin typeface="Times New Roman"/>
              </a:rPr>
              <a:t> </a:t>
            </a:r>
            <a:r>
              <a:rPr b="1" lang="ru-RU" sz="4000" spc="-1" strike="noStrike">
                <a:solidFill>
                  <a:srgbClr val="feec94"/>
                </a:solidFill>
                <a:latin typeface="Times New Roman"/>
              </a:rPr>
              <a:t>Содержание</a:t>
            </a:r>
            <a:br>
              <a:rPr sz="4000"/>
            </a:br>
            <a:endParaRPr b="1" lang="en-US" sz="4000" spc="-1" strike="noStrike">
              <a:solidFill>
                <a:srgbClr val="feec94"/>
              </a:solidFill>
              <a:latin typeface="Times New Roman"/>
            </a:endParaRPr>
          </a:p>
        </p:txBody>
      </p:sp>
      <p:sp>
        <p:nvSpPr>
          <p:cNvPr id="125" name="PlaceHolder 2"/>
          <p:cNvSpPr>
            <a:spLocks noGrp="1"/>
          </p:cNvSpPr>
          <p:nvPr>
            <p:ph/>
          </p:nvPr>
        </p:nvSpPr>
        <p:spPr>
          <a:xfrm>
            <a:off x="250560" y="1735200"/>
            <a:ext cx="8893080" cy="51228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Причины резкого ухудшения здоровья детей в новых социально-экономических условиях.</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рганизация учебной деятельности в условиях здоровьесбережения.</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3. Цели и задачи формирования ценности здоровья и здорового образа жизнедеятельности учащихся.</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4. Использование элементов методики Базарного В.Ф.</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5. Выводы.</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64" name="PlaceHolder 2"/>
          <p:cNvSpPr>
            <a:spLocks noGrp="1"/>
          </p:cNvSpPr>
          <p:nvPr>
            <p:ph/>
          </p:nvPr>
        </p:nvSpPr>
        <p:spPr>
          <a:xfrm>
            <a:off x="324000" y="-360"/>
            <a:ext cx="8229600" cy="2708280"/>
          </a:xfrm>
          <a:prstGeom prst="rect">
            <a:avLst/>
          </a:prstGeom>
          <a:noFill/>
          <a:ln w="0">
            <a:noFill/>
          </a:ln>
        </p:spPr>
        <p:txBody>
          <a:bodyPr anchor="t">
            <a:normAutofit fontScale="74000"/>
          </a:bodyPr>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Учащиеся не задумываются, какой образ жизни они ведут, не имеют мотивации на его улучшение. Подобная ситуация на фоне неблагоприятных тенденций в состоянии здоровья учащихся диктует необходимость усиления валеологического воспитания и обучения. Подтверждено мнение о том, что завышенная самооценка здоровья и вытекающее отсюда невнимательное к нему отношение является одной из причин роста патологии.</a:t>
            </a:r>
            <a:endParaRPr b="0" lang="en-US" sz="2800" spc="-1" strike="noStrike">
              <a:solidFill>
                <a:srgbClr val="ffffff"/>
              </a:solidFill>
              <a:latin typeface="Times New Roman"/>
            </a:endParaRPr>
          </a:p>
        </p:txBody>
      </p:sp>
      <p:pic>
        <p:nvPicPr>
          <p:cNvPr id="165" name="Picture 7" descr="Рисунок14"/>
          <p:cNvPicPr/>
          <p:nvPr/>
        </p:nvPicPr>
        <p:blipFill>
          <a:blip r:embed="rId1"/>
          <a:stretch/>
        </p:blipFill>
        <p:spPr>
          <a:xfrm>
            <a:off x="7775640" y="4668840"/>
            <a:ext cx="136836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rot="10800000">
            <a:off x="0" y="0"/>
            <a:ext cx="8686800" cy="27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Целью своей работы считаю следующе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внедрение здоровьесберегающих педагогических технологий в учебно-воспитательный процесс;</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пропаганду здорового образа жизн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формирование ценности здоровья</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ЗАДАЧ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a:t>
            </a:r>
            <a:r>
              <a:rPr b="0" i="1" lang="ru-RU" sz="2800" spc="-1" strike="noStrike">
                <a:solidFill>
                  <a:srgbClr val="ffffff"/>
                </a:solidFill>
                <a:latin typeface="Times New Roman"/>
              </a:rPr>
              <a:t>формирование устойчивой мотивации на здоровь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0" i="1" lang="ru-RU" sz="2800" spc="-1" strike="noStrike">
                <a:solidFill>
                  <a:srgbClr val="ffffff"/>
                </a:solidFill>
                <a:latin typeface="Times New Roman"/>
              </a:rPr>
              <a:t>* обучение основам здорового образа жизн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0" i="1" lang="ru-RU" sz="2800" spc="-1" strike="noStrike">
                <a:solidFill>
                  <a:srgbClr val="ffffff"/>
                </a:solidFill>
                <a:latin typeface="Times New Roman"/>
              </a:rPr>
              <a:t>* разработка и внедрение педагогических рекомендаций по оптимизации образовательного процесса на валеологической основе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69" name="PlaceHolder 2"/>
          <p:cNvSpPr>
            <a:spLocks noGrp="1"/>
          </p:cNvSpPr>
          <p:nvPr>
            <p:ph/>
          </p:nvPr>
        </p:nvSpPr>
        <p:spPr>
          <a:xfrm>
            <a:off x="0" y="620640"/>
            <a:ext cx="8362800" cy="378936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 условиях жесткого режима учебных занятий</a:t>
            </a:r>
            <a:endParaRPr b="0" lang="en-US" sz="2800" spc="-1" strike="noStrike">
              <a:solidFill>
                <a:srgbClr val="ffffff"/>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самое большое нервное напряжение   испы-</a:t>
            </a:r>
            <a:endParaRPr b="0" lang="en-US" sz="2800" spc="-1" strike="noStrike">
              <a:solidFill>
                <a:srgbClr val="ffffff"/>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тывают дети во время ответов по домашним заданиям. Это особо касается учащихся имеющих общие затруднения в связи с отклонениями в развитии из познавательных способностей памяти, внимания, мышления, воображения, речи.</a:t>
            </a:r>
            <a:endParaRPr b="0" lang="en-US" sz="2800" spc="-1" strike="noStrike">
              <a:solidFill>
                <a:srgbClr val="ffffff"/>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Среди способов, облегчающих детям решение их проблем я применяю следующие:</a:t>
            </a:r>
            <a:endParaRPr b="0" lang="en-US" sz="2800" spc="-1" strike="noStrike">
              <a:solidFill>
                <a:srgbClr val="ffffff"/>
              </a:solidFill>
              <a:latin typeface="Times New Roman"/>
            </a:endParaRPr>
          </a:p>
        </p:txBody>
      </p:sp>
      <p:pic>
        <p:nvPicPr>
          <p:cNvPr id="170" name="Picture 7" descr="Рисунок23"/>
          <p:cNvPicPr/>
          <p:nvPr/>
        </p:nvPicPr>
        <p:blipFill>
          <a:blip r:embed="rId1"/>
          <a:stretch/>
        </p:blipFill>
        <p:spPr>
          <a:xfrm>
            <a:off x="6659640" y="4668840"/>
            <a:ext cx="2179440" cy="21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rot="10800000">
            <a:off x="971640" y="260280"/>
            <a:ext cx="86868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72" name="PlaceHolder 2"/>
          <p:cNvSpPr>
            <a:spLocks noGrp="1"/>
          </p:cNvSpPr>
          <p:nvPr>
            <p:ph/>
          </p:nvPr>
        </p:nvSpPr>
        <p:spPr>
          <a:xfrm>
            <a:off x="0" y="-243360"/>
            <a:ext cx="9144000" cy="7101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Ученик отвечает, имея перед собой план ответа по данной тем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2. При боязни ответа у доски учащимся предлагается письменный ответ по карточк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3. Если ученик хочет получить другую, более высокую оценку за ответ, ему предоставляется такая возможност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4. Отсутствие перегрузки учебными и домашними занятиями;</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5. Выполнение основных санитарных норм и правил в ходе УВП</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6. Высокая двигательная активность в ходе урока ( элементы методики Базарного В.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74" name="PlaceHolder 2"/>
          <p:cNvSpPr>
            <a:spLocks noGrp="1"/>
          </p:cNvSpPr>
          <p:nvPr>
            <p:ph/>
          </p:nvPr>
        </p:nvSpPr>
        <p:spPr>
          <a:xfrm>
            <a:off x="0" y="33336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спользую межпредметные связи достаточно широко: они могут быть применены на всех этапах учебных занятий на уроке, а также на занятиях обобщающего и контрольного характера. При этом отмечаются различные формы подачи здоровьесберегающего материала: для задач и упражнений на уроках математики, предложения и тексты на занятитях по русскому языку, дополнительные факты и объяснения событий, процессов на уроках «здоровь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76"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сследование свидетельствует: занятия по данной технологии помогают учащимся избавиться от ненужной настороженности, тревожности, обрести уравновешанность и больший интерес к учёбе, повышают работоспособност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Традиционное построение урока и однообразная учебная работа снижают интерес к обучению, утомляют детей, вызывают эмоциональный дискомфорт. Возникает настоятельная необходимость в подборе и внедрении здоровьесберегающих технологий в учебный процесс.</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58640"/>
            <a:ext cx="8469360" cy="27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eec94"/>
                </a:solidFill>
                <a:latin typeface="Times New Roman"/>
              </a:rPr>
              <a:t>Лучшего средства от хвори нет- это движение до старости лет</a:t>
            </a:r>
            <a:br>
              <a:rPr sz="3200"/>
            </a:br>
            <a:r>
              <a:rPr b="1" i="1" lang="ru-RU" sz="3200" spc="-1" strike="noStrike">
                <a:solidFill>
                  <a:srgbClr val="feec94"/>
                </a:solidFill>
                <a:latin typeface="Times New Roman"/>
              </a:rPr>
              <a:t>                                                     ( пословица)</a:t>
            </a:r>
            <a:endParaRPr b="1" lang="en-US" sz="3200" spc="-1" strike="noStrike">
              <a:solidFill>
                <a:srgbClr val="feec94"/>
              </a:solidFill>
              <a:latin typeface="Times New Roman"/>
            </a:endParaRPr>
          </a:p>
        </p:txBody>
      </p:sp>
      <p:sp>
        <p:nvSpPr>
          <p:cNvPr id="178" name="PlaceHolder 2"/>
          <p:cNvSpPr>
            <a:spLocks noGrp="1"/>
          </p:cNvSpPr>
          <p:nvPr>
            <p:ph/>
          </p:nvPr>
        </p:nvSpPr>
        <p:spPr>
          <a:xfrm>
            <a:off x="0" y="1773360"/>
            <a:ext cx="9144000" cy="508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При всей многогранности подходов к сбережению и укреплению здоровья школьников (питание, экология, психология, гигиена) на первое место выходит фактор двигательной активности.</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Многочисленными исследованиями учёных доказано, что с поступлением в школу общая двигательная активность ребёнка падает во много раз. В существующей же традиционной практике школьного обучения ей отводится лишь 10-18% общего бюджета времени. В результате у детей извращаются физиологические реакции, снижается жизненный тонус, быстрее наступает утомлени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80"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Подход комплексной направленности воздействия на организм был предложен доктором медицинских наук Базарным В.Ф. Основным принципом предложенных технологий является расширение двигательной активности на академическом уроке за счёт дидактических приёмов моделирования ползнавательной деятельности ученика с исполльзованием упражнений с сигнальными метками, упражнений с помощью зрительно-двигательных траекторий, смены рабочиз поз.</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685800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82"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 результате работы по методике Базарного В, Ф. удалось достичь положительных результатов в укреплении здоровья дете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на начало  2007-2008 учебного года было проведено углубленное медицинское обследование учащихся. Выявлено 5 человек, склонных к близорукости. Через год у 2-х учащихся зрение улучшилось. Ещё через год, у 3-х учащихся был снят диагноз «близорукост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на 2-ом году обучения при обследовании учащихся впервые выявленных с понижением зрения не было.</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84"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сследование свидетельствует: занятия по данной технологии помогают учащимся избавиться от ненужной настороженности, тревожности, обрести уравновешанность и больший интерес к учёбе, повышает работоспособност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Традиционное построение урока и однообразная учебная работа снижают интерес к обучению, утомляют детей, вызывают эмоциональный дискомфорт. Возникает настоятельная необходимость в подборе и внедрении здоровьесберегающих технологий в учебный процесс.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5493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Здоровье не всё, но всё без здоровья-ничто.</a:t>
            </a:r>
            <a:br>
              <a:rPr sz="4000"/>
            </a:br>
            <a:r>
              <a:rPr b="1" lang="ru-RU" sz="4000" spc="-1" strike="noStrike">
                <a:solidFill>
                  <a:srgbClr val="feec94"/>
                </a:solidFill>
                <a:latin typeface="Times New Roman"/>
              </a:rPr>
              <a:t>                             (Сократ)</a:t>
            </a:r>
            <a:endParaRPr b="1" lang="en-US" sz="4000" spc="-1" strike="noStrike">
              <a:solidFill>
                <a:srgbClr val="feec94"/>
              </a:solidFill>
              <a:latin typeface="Times New Roman"/>
            </a:endParaRPr>
          </a:p>
        </p:txBody>
      </p:sp>
      <p:sp>
        <p:nvSpPr>
          <p:cNvPr id="127" name="PlaceHolder 2"/>
          <p:cNvSpPr>
            <a:spLocks noGrp="1"/>
          </p:cNvSpPr>
          <p:nvPr>
            <p:ph/>
          </p:nvPr>
        </p:nvSpPr>
        <p:spPr>
          <a:xfrm>
            <a:off x="250920" y="1989000"/>
            <a:ext cx="822960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Здоровые дети- это благополучие общества. Без здорового подрастающего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околения у нации нет будущего.</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Здоровье современных школьников-серьёзная национальная проблема. Поэтому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дной из основных задач обучения является «формирование устойчивой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отивации сохранения и укрепления здоровья учащихся».</a:t>
            </a:r>
            <a:endParaRPr b="0" lang="en-US" sz="14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Как указывает медицинская наука, здоровье примерно на 50%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определяется образом  жизни, на 20%-генетическими факторами, столько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же экологией и лишь 10% отводится роли современной медицины.</a:t>
            </a:r>
            <a:endParaRPr b="0" lang="en-US" sz="16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800" spc="-1" strike="noStrike">
                <a:solidFill>
                  <a:srgbClr val="ffffff"/>
                </a:solidFill>
                <a:latin typeface="Times New Roman"/>
              </a:rPr>
              <a:t>Два вида факторов оказывают сегодня отрицательное влияние на</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здоровье детей.</a:t>
            </a:r>
            <a:endParaRPr b="0" lang="en-US" sz="1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2000" spc="-1" strike="noStrike">
                <a:solidFill>
                  <a:srgbClr val="ffffff"/>
                </a:solidFill>
                <a:latin typeface="Times New Roman"/>
              </a:rPr>
              <a:t>Во-первых, это внешние факторы, на  которые  влияние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школы, педагогов носит опосредственный характер, они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не поддаются быстрым изменениям.</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       </a:t>
            </a:r>
            <a:r>
              <a:rPr b="1" lang="ru-RU" sz="4000" spc="-1" strike="noStrike">
                <a:solidFill>
                  <a:srgbClr val="feec94"/>
                </a:solidFill>
                <a:latin typeface="Times New Roman"/>
              </a:rPr>
              <a:t>Внешние факторы:</a:t>
            </a:r>
            <a:br>
              <a:rPr sz="4000"/>
            </a:br>
            <a:endParaRPr b="1" lang="en-US" sz="40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Социально-экономический кризис</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Наш округ объявлен зоной экологического кризиса. Этому способствуют климатические условия региона.</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Кризис семьи.</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Духовный, нравственный кризис общест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a:t>
            </a:r>
            <a:endParaRPr b="1" lang="en-US" sz="4400" spc="-1" strike="noStrike">
              <a:solidFill>
                <a:srgbClr val="feec94"/>
              </a:solidFill>
              <a:latin typeface="Times New Roman"/>
            </a:endParaRPr>
          </a:p>
        </p:txBody>
      </p:sp>
      <p:sp>
        <p:nvSpPr>
          <p:cNvPr id="131" name="PlaceHolder 2"/>
          <p:cNvSpPr>
            <a:spLocks noGrp="1"/>
          </p:cNvSpPr>
          <p:nvPr>
            <p:ph/>
          </p:nvPr>
        </p:nvSpPr>
        <p:spPr>
          <a:xfrm>
            <a:off x="324000" y="475920"/>
            <a:ext cx="8229600" cy="3313080"/>
          </a:xfrm>
          <a:prstGeom prst="rect">
            <a:avLst/>
          </a:prstGeom>
          <a:noFill/>
          <a:ln w="0">
            <a:noFill/>
          </a:ln>
        </p:spPr>
        <p:txBody>
          <a:bodyPr anchor="t">
            <a:normAutofit fontScale="94000"/>
          </a:bodyPr>
          <a:p>
            <a:pPr marL="322200" indent="-3222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о-вторых, это внутренние факторы, действующие в каждом регионе, городе, селе и в самом образовательном учреждении. Именно они оказывают влияние и на образ жизни ребёнка, и на характер окружающей его среды.Изменить их влияние на здоровье ребёнка в лучшую сторону-такова задача педагогов, медицинской службы в школе и в не её.</a:t>
            </a:r>
            <a:endParaRPr b="0" lang="en-US" sz="2800" spc="-1" strike="noStrike">
              <a:solidFill>
                <a:srgbClr val="ffffff"/>
              </a:solidFill>
              <a:latin typeface="Times New Roman"/>
            </a:endParaRPr>
          </a:p>
        </p:txBody>
      </p:sp>
      <p:pic>
        <p:nvPicPr>
          <p:cNvPr id="132" name="Picture 9" descr="Рисунок28"/>
          <p:cNvPicPr/>
          <p:nvPr/>
        </p:nvPicPr>
        <p:blipFill>
          <a:blip r:embed="rId1"/>
          <a:stretch/>
        </p:blipFill>
        <p:spPr>
          <a:xfrm>
            <a:off x="6084720" y="4076640"/>
            <a:ext cx="219564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531720"/>
            <a:ext cx="8300880" cy="16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r>
              <a:rPr b="1" lang="ru-RU" sz="4400" spc="-1" strike="noStrike">
                <a:solidFill>
                  <a:srgbClr val="feec94"/>
                </a:solidFill>
                <a:latin typeface="Times New Roman"/>
              </a:rPr>
              <a:t>Внутренние факторы:</a:t>
            </a:r>
            <a:endParaRPr b="1" lang="en-US" sz="4400" spc="-1" strike="noStrike">
              <a:solidFill>
                <a:srgbClr val="feec94"/>
              </a:solidFill>
              <a:latin typeface="Times New Roman"/>
            </a:endParaRPr>
          </a:p>
        </p:txBody>
      </p:sp>
      <p:sp>
        <p:nvSpPr>
          <p:cNvPr id="134" name="PlaceHolder 2"/>
          <p:cNvSpPr>
            <a:spLocks noGrp="1"/>
          </p:cNvSpPr>
          <p:nvPr>
            <p:ph/>
          </p:nvPr>
        </p:nvSpPr>
        <p:spPr>
          <a:xfrm>
            <a:off x="0" y="549000"/>
            <a:ext cx="9144000" cy="1096164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Курс на развитие личности современного школьника не учитывает по-настоящему состояние его здоровья. В результате значительное количество детей, имеющих отклонения в здоровье, не в состоянии оказались овладеть современными государственными Программами, наиболее сложными, трудными из всех существующих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 мир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2. Современная школа не формирует у детей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понятия, что здоровье-основная, первая жизненная ценность. Сейчас она у многих на</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3.4 мест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6" name="PlaceHolder 2"/>
          <p:cNvSpPr>
            <a:spLocks noGrp="1"/>
          </p:cNvSpPr>
          <p:nvPr>
            <p:ph/>
          </p:nvPr>
        </p:nvSpPr>
        <p:spPr>
          <a:xfrm>
            <a:off x="0" y="259920"/>
            <a:ext cx="9144000" cy="6597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Из этого анализа «внутренних факторов»,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лияющих на здоровье детей, видно,    насколько они многочисленны и серьёзны.</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Таким образом, мы видим, что причины современного кризиса детского здоровья представляют из себя сложный комплект взаимосвязанных проблем всей страны, системы образования и здравоохранения как федерального, так и регионального характера.</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  этих условиях общего кризиса здоровья нации нужны новые концептуальные подходы к решению данной проблемы во всей системе образования и здравоохранения. Особенности этих подходов-это изменение функции современных ОУ, в первую очередь таких социальных институтов, как школа и семья.</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eec94"/>
                </a:solidFill>
                <a:latin typeface="Times New Roman"/>
              </a:rPr>
              <a:t>   </a:t>
            </a:r>
            <a:r>
              <a:rPr b="1" lang="ru-RU" sz="4000" spc="-1" strike="noStrike">
                <a:solidFill>
                  <a:srgbClr val="feec94"/>
                </a:solidFill>
                <a:latin typeface="Times New Roman"/>
              </a:rPr>
              <a:t>Забота о здоровье-это важнейший труд воспитателя.</a:t>
            </a:r>
            <a:br>
              <a:rPr sz="4000"/>
            </a:br>
            <a:r>
              <a:rPr b="1" lang="ru-RU" sz="4000" spc="-1" strike="noStrike">
                <a:solidFill>
                  <a:srgbClr val="feec94"/>
                </a:solidFill>
                <a:latin typeface="Times New Roman"/>
              </a:rPr>
              <a:t>                (В.А. Сухомлинский)</a:t>
            </a:r>
            <a:endParaRPr b="1" lang="en-US" sz="4000" spc="-1" strike="noStrike">
              <a:solidFill>
                <a:srgbClr val="feec94"/>
              </a:solidFill>
              <a:latin typeface="Times New Roman"/>
            </a:endParaRPr>
          </a:p>
        </p:txBody>
      </p:sp>
      <p:sp>
        <p:nvSpPr>
          <p:cNvPr id="138" name="PlaceHolder 2"/>
          <p:cNvSpPr>
            <a:spLocks noGrp="1"/>
          </p:cNvSpPr>
          <p:nvPr>
            <p:ph/>
          </p:nvPr>
        </p:nvSpPr>
        <p:spPr>
          <a:xfrm>
            <a:off x="0" y="1915920"/>
            <a:ext cx="9144000" cy="494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Здоровый образ жизни не занимает пока  первое место в иерархии потребностей  и ценностей человека в нашем обществе. Но если научим детей с самого раннего возраста ценить, беречь и укреплять своё здоровье .  если мы будем личным примером демонстрировать здоровый образ жизни, то только в этом случаи можно надеяться, что будущие поколения будут более здоровы и развиты не только личностно, интеллектуально, духовно, но и физическ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0" name="PlaceHolder 2"/>
          <p:cNvSpPr>
            <a:spLocks noGrp="1"/>
          </p:cNvSpPr>
          <p:nvPr>
            <p:ph/>
          </p:nvPr>
        </p:nvSpPr>
        <p:spPr>
          <a:xfrm>
            <a:off x="0" y="259920"/>
            <a:ext cx="8686800" cy="5870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Многочисленные исследования последних лет показывают, что около 25-30% детей, приходящих в 1-е классы, имеют те или иные отклонения  в состоянии здоровья. За период обучения в школе число здоровых детей уменьшается в 4 раза, число близоруких детей увеличивается с 4% до 12%, нарушениями осанки- с 2% до 17%, с нервно-психическими расстройствами-с 6%</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до 17%.     Известно, что источником отрицательного воздействия на организм ребёнка является: социально-экономичес-кие,экологические,медицинские, а также внутришкольные факторы. </a:t>
            </a:r>
            <a:endParaRPr b="0" lang="en-US" sz="2800" spc="-1" strike="noStrike">
              <a:solidFill>
                <a:srgbClr val="ffffff"/>
              </a:solidFill>
              <a:latin typeface="Times New Roman"/>
            </a:endParaRPr>
          </a:p>
        </p:txBody>
      </p:sp>
      <p:graphicFrame>
        <p:nvGraphicFramePr>
          <p:cNvPr id="141" name=""/>
          <p:cNvGraphicFramePr/>
          <p:nvPr/>
        </p:nvGraphicFramePr>
        <p:xfrm>
          <a:off x="0" y="0"/>
          <a:ext cx="9144000" cy="6858000"/>
        </p:xfrm>
        <a:graphic>
          <a:graphicData uri="http://schemas.openxmlformats.org/drawingml/2006/table">
            <a:tbl>
              <a:tblPr/>
              <a:tblGrid>
                <a:gridCol w="9144000"/>
              </a:tblGrid>
              <a:tr h="68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jsMath-cmbx10"/>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04:55:21Z</dcterms:created>
  <dc:creator>Миронов</dc:creator>
  <dc:description/>
  <dc:language>en-US</dc:language>
  <cp:lastModifiedBy>Елена</cp:lastModifiedBy>
  <dcterms:modified xsi:type="dcterms:W3CDTF">2016-02-04T05:41:28Z</dcterms:modified>
  <cp:revision>44</cp:revision>
  <dc:subject/>
  <dc:title>Слайд 1</dc:title>
</cp:coreProperties>
</file>