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45F-BB7B-497F-AA7C-7B76A811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A744-ADE1-4E3D-ABE5-D71DDB95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190-3D43-4297-B922-0A9E67AC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CD9-0A86-43F2-882D-22CD70D0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3485-44E6-48EA-B771-2BD5F592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022D-B716-4D80-92CA-CCCB4E7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DBB-4DD4-45FF-B6A9-9C590CD6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D032-3389-4061-B071-B39BDEB5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1C7-D4E7-4B48-9C19-23759AC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CEAB-F4BC-432C-BF34-23B4FF11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919F-9F9D-4B33-B45D-E197615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F52-6E67-49A9-888E-433411E8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9168-72C9-485A-BA60-657C468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817-7B06-441F-885D-BF98512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A757-99E4-4EDD-AD0E-67DD777F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AB4-182D-4FF9-BB39-3C049BDD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184-0644-4C6A-A4EC-5A5E952C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0F76-A7A8-432F-B003-9B427664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A56AD-91CB-4E03-BF9B-6D7021C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1E84-8BCE-4592-A95C-FD224D5D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9AAA3-42E2-48DD-95C9-E5E5F384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D423-56D9-4034-9D5F-B11097B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1C7-4B78-4CDF-B526-A77A7248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0516-9F6D-4427-9A35-47A17D66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CAFD-DA4B-4C8E-8CC6-162EB97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A805-6401-4406-A8B6-F5B7AF9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8B02-6C5F-4FAE-B665-FABD96D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743E-0859-47B8-9F74-C5A0899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BCF7-5E14-41BE-B1F2-492A7834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F7C1-FF96-45A8-98A1-A509EA72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C0A7-42BA-4650-8A08-BF16AEF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88CC-3CA5-4400-93D0-F914180B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2EE8-8DAA-4E4D-8610-1E89642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2A2-AA77-4E19-A813-B295DB31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974A-2553-49F4-81C0-CDBD728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97B1-B551-471E-978E-8AA54DB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6B82-E2B2-4791-B1C5-D0A868F9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4EF8-243E-4FF1-AE3A-AD5EF85E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3D7A-B1AD-48DA-AA2B-5179E21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F607-C8C0-4EB2-806A-D8E818B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D51F-7F22-46E2-9713-846D48C6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3E40-B502-4F9E-A523-72DC493F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CD63C-3493-44BB-B359-E96C081C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D91-08B1-45D8-8195-3F828EC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94C-F3E8-443E-9360-C539E07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549-5EA7-4EB1-AFA6-C66C182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5E6-F5F2-466C-A704-4AE549C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B13-E550-459D-94B0-34A9479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6FE-D0DD-4787-8E1F-B5BD1DB6BF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7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4F6A-64EC-406B-BC56-702E0CB8E1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D597-12A2-4D34-8967-C59F73E6A1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1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23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4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95D6-0511-4722-A06B-D97AC3C1A8C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403812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ЕКСАНДР  СЕРГЕЕВИ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УШКИ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Picture 5" descr="ПОРТ"/>
          <p:cNvPicPr/>
          <p:nvPr/>
        </p:nvPicPr>
        <p:blipFill>
          <a:blip r:embed="rId1"/>
          <a:stretch/>
        </p:blipFill>
        <p:spPr>
          <a:xfrm>
            <a:off x="4038480" y="228600"/>
            <a:ext cx="3276720" cy="37339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14" name="Picture 6" descr="Сказка о Царе Салтане"/>
          <p:cNvPicPr/>
          <p:nvPr/>
        </p:nvPicPr>
        <p:blipFill>
          <a:blip r:embed="rId2"/>
          <a:stretch/>
        </p:blipFill>
        <p:spPr>
          <a:xfrm>
            <a:off x="152280" y="285840"/>
            <a:ext cx="2819520" cy="35240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15" name="Picture 7" descr="Сказки Пушкина"/>
          <p:cNvPicPr/>
          <p:nvPr/>
        </p:nvPicPr>
        <p:blipFill>
          <a:blip r:embed="rId3"/>
          <a:stretch/>
        </p:blipFill>
        <p:spPr>
          <a:xfrm>
            <a:off x="5791320" y="4527720"/>
            <a:ext cx="1752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34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a1600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1a1600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34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32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...в год за три щелчка полбу..."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a1600"/>
                </a:solidFill>
                <a:latin typeface="Times New Roman"/>
              </a:rPr>
              <a:t>4.В кого превращался князь Гвидон, когда летал в царство Салтана?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pic>
        <p:nvPicPr>
          <p:cNvPr id="32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3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  <p:sp>
        <p:nvSpPr>
          <p:cNvPr id="33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a1600"/>
                </a:solidFill>
                <a:latin typeface="Times New Roman"/>
              </a:rPr>
              <a:t>Петушок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6-01-25T13:38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