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2CE6-7062-45DF-B75B-E2DF868D8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914C-255F-44F3-A0FD-72B5F292E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CE6D-D6B2-495D-B34C-DB6A13B72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36D9-C5B6-4990-BF09-05909F6D2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E83C-713E-4423-93B6-E791924AC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2659-08CA-43AF-A605-A9A9517E3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7270-DA72-4FA8-AA6A-A0D296021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EE12-DF49-4BCC-8EB5-C5F3D00F8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F74E-D073-4972-9F2D-A6483A2EE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CE8-A424-4143-8A22-532B327B79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5B64-F687-4A53-B126-D241BBAF2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02D6-93AE-48F5-815D-5EDA9114B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8226-4C28-435F-952E-033F35211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8540-BCAF-4C6F-8A09-480168DB6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6732-430C-4C71-8C92-5C7179A5C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459B-621C-4EC5-B032-614E5A143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08E5-976D-49D6-B1A9-20DBEBAEF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2D68-3944-48C0-9F9A-90FBF7C4F5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484F-1700-463F-BF81-E98C44DD5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0243-697D-4D32-9A23-2AADC6CA7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908-BA2B-4A5F-9105-07427F5F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762-BD0C-4F5A-9A1B-D6042F68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4EC-77DF-4C36-B7C5-0426A460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C3D-7821-4F25-9FE9-67643735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46D75-07C4-4F66-84E8-8D831F0E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C35F4-DA25-4D82-A2B9-C3A68A2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E871B-E271-40B2-B445-F1845E3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A6108-6A8D-4618-B611-671271A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F4893-7115-46AF-9174-FC029424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ACFFE-4226-4D8E-A908-E8857772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FAC9F-CD05-4DCE-B21C-810B422E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304-C4EF-4708-B27D-842F1FA6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E842B-1988-4A02-8F29-CF28AD4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B6329-3A9F-4EEC-83D5-717E455C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10CA3-5A2A-4CA1-898E-391DB6E0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43D76-B168-4C0B-95EF-5DD52390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0D9E9-3869-4B5E-A942-96EB0F58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30E-4057-4507-9DC3-42409D6E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065-D46E-40B4-8740-F8E86D74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FB2-39F2-47C7-8F2C-FCB91974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2A4-2F13-491E-A043-E3855100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C37-2DDA-4E26-92D9-82EC26E0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38B-DE9A-44D8-8734-C21A6505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EA5-49C9-43C1-8AE9-97B89E3A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B2F-2DF0-4875-9B9B-D29AB277C5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975B-630E-4B8B-B3BE-D99C61215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890640" y="36360"/>
            <a:ext cx="8435880" cy="1938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42680" y="-360"/>
            <a:ext cx="68677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инят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бён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785520"/>
            <a:ext cx="86439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1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инять – значит любить не за отметку или убранную кровать, а за сам факт его существования в этом мир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1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инятие, зависящее от поступков, это принятие условное, имеющее игровой подтекс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1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гровое принятие имеет искусственный привкус, в основе которого  безразличие и обма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ИЗН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ует у детей чувство собственной значимости и необходимости в своей семь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изнавая собственного ребёнка, многие рисуют идеализированный образ, который складывается из желаемого и далёкого  от реальной действительно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только представления расходятся с действительностью, то появляется проблема в общении между родителями и  деть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357120" y="357120"/>
            <a:ext cx="8501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Если ребёнок хорош, значит любим, признан, приня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Если нет, это приводит к раздраж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знание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редполагает одобрение,  похвалу, положительную реакцию семьи на любое незначительное усилие со стороны ребён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знание не может быть эпизодическим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500040" y="0"/>
            <a:ext cx="8643960" cy="61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Если требования предъявляются, но любви ребёнок  не ощущает,  эти требования  останутся невыполнимым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Родительская  любовь  должна искать  в  своём  ребёнке достоинст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едостатки, как правило, всегда лежат  на поверхност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428760" y="357120"/>
            <a:ext cx="8215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ебёнок должен сам извинять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н должен пережить стыд, а порой и унижение для того, чтобы такого больше не соверша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оспитывать ответственность- это, значит, использовать метод ограничения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Необходимо говорить ребёнку «нет». Умение говорить «нет»- это обоюдное решение  родителей.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2071800" y="1000080"/>
            <a:ext cx="664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елай так, как тебе говорю я, или вообще не дела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жешь делать, что  хочеш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не все равно, что ты дела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Я хочу понять, почему ты так делаеш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7567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вторитет родителей -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ажная составляющая успешного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 flipH="1">
            <a:off x="1834920" y="2781360"/>
            <a:ext cx="64908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 flipH="1">
            <a:off x="2916360" y="3068640"/>
            <a:ext cx="50472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4211280" y="3068640"/>
            <a:ext cx="142920" cy="158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6516720" y="2997360"/>
            <a:ext cx="287280" cy="122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7740720" y="2852640"/>
            <a:ext cx="576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143000" y="3857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857160" y="4221000"/>
            <a:ext cx="313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дительского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о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286080" y="472428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б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6072120" y="450072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ку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6929280" y="407664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932360" y="1773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5364000" y="3068640"/>
            <a:ext cx="0" cy="12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286160" y="41432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зид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56000" y="1844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Ложный авторит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-28620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ЮБ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4200" y="1142640"/>
            <a:ext cx="87156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етям нужно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чтобы    их  любил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Любовь необходима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чтобы ребёнок мог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адекватно реагировать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на 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те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требования, которые к нему предъявляют в семь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юб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6840" y="1213920"/>
            <a:ext cx="7572600" cy="41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ccff"/>
              </a:buClr>
              <a:buSzPct val="8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Показная демонстрация родительской люб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ccff"/>
              </a:buClr>
              <a:buSzPct val="8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 Заласкивание ребё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ccff"/>
              </a:buClr>
              <a:buSzPct val="8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 Выполнение его желаний в ответ на проявление нежности к родител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*   В этих семьях чаще вырастают циники. Расчётливые, жестокие и агрессивные лю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2071800" y="714240"/>
            <a:ext cx="664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ВОБОДА + ЛЮБОВ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действует гармоничному развитию детской лич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Это идеальное соотношение в детско-родительских отношениях. Потому что оно содержит «два счастья в одно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бенок, которого любят, принимает себя таким, каким он е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docs.google.com/viewer?url=http%3A%2F%2Fnsportal.ru%2Fsites%2Fdefault%2Ffiles%2F2013%2F12%2Fpervye_problemy_podrostkovogo_perioda.ppt&amp;docid=10426b4e160639ebbe2f40be9d2bba89&amp;a=bi&amp;pagenumber=1&amp;w=5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43040" y="428760"/>
            <a:ext cx="714384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ЕПАЯ   РОДИТЕЛЬСКАЯ  ЛЮБОВЬ + КОНТ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рушает детскую личность. Большой риск  развития различных форм зависимости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епая  родительская любовь, умноженная на тотальный контроль – очень опасный коктейль.  По мнению психологов, именно от таких отношений дети чаще всего убегают в « химическую зависимость»- и в первую очередь это нарко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071800" y="500040"/>
            <a:ext cx="65721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ОНТРОЛЬ + НЕЛЮБОВ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зрушает детскую личн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бенок, живущий в семье , где  запрещены искренние чувства, 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увствует  что его не любят. Ему трудно жить в «ледяной « атмосфере.. Часто дети из таких семей не видят для себя выхода.  По мнению психологов, именно в таких семьях наивысший уровень детских суици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2000160" y="500040"/>
            <a:ext cx="6858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ВОБОДА  +  НЕЛЮБОВ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аёт возможность для развития детской личности, но   большой риск физической гибели  или  травмирования ребенка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ети получают практически неограниченную свободу выбора – поскольку они никому не нужны. Их не любят. Внутри у них остается всегда огромная пропасть. Они всегда остаются в группе рис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5596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одительского          поло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6840" y="1571400"/>
            <a:ext cx="75726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дители, занимающие высокие посты, демонстрируют своё положение и заслуги на каждом шагу: соседям, знаком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*  Дети очень быстро начинают пользоваться родительскими заслугами. Не умея критически взглянуть на себя со стороны, становятся хвастливыми и высокомерн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обр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48988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слушание детей приобретаетс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родительской добро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мягк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уступчив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беспринцип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одители боятся конфликтов и уходят от них, принося себя в жерт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* Дети капризны, требовательны, командуют родител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дку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2640" y="1285560"/>
            <a:ext cx="748332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орошее поведение покупается подарками или обещаниями каких-либо бла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*  В таких условиях дети, исходя из личной выгоды, лавируют, приспосабливаютс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и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214280"/>
            <a:ext cx="835812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бёнка мучают бесконечными поучениями и назидательными разговорами. В качестве примера приводят собственный опыт, который не всегда  является  положитель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* Дети озлобляются против нравоучений, привыкают к ним и перестают на них реагировать, отказываются слушать и слышать своих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д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8581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каждому поводу родители раздражаются, сердятся, повышают голос, прибегают подчас и к физическим методам воз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и таком терроре ребёнок вырастает безвольным, запуганным или, наоборот, самодуром, мстящим за подавленное дет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*Подавление  страшно  своим эффектом бумеранга. Тот, кого подавляют очень хочет компенсировать собственное подавление и зачастую это у него получается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571680" y="24120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дантизм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ители, не считаясь с мнением ребенка, отдают приказы и требуют точного и беспрекословного их выполнения. Дети из таких семей либо подчиняются, и тогда страдают от отсутствия самостоятельности, либо сопротивляются требованиям взросл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500040" y="66564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постоянно критикует, он учится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живет во вражде, он учится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растет в упреках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растет в терпимости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ка хвалят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растет в честности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растет в безопасности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ка поддерживают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ка высмеивают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живет в понимании и дружелюбии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500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3571920" y="1071720"/>
            <a:ext cx="53578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ростки решают судь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ьёзных взрослы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воих одиноких прогулках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компании шумной сво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и намечают цел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и выбирают пу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этого выбора взросл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ой никуда не у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алентин Берестов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85840" y="0"/>
            <a:ext cx="885816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дети живут в обстановке критики, они учатся критиковать и осуждать других люд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дети живут в обстановке вражды они учатся быть злыми, учатся драть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дети живут среди насмешек. Они становятся нерешительными и излишне скромны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дети живут в обстановке стыда и смущения. Чувство собственного достоинства уступает место чувству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роти Нол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4" descr=""/>
          <p:cNvPicPr/>
          <p:nvPr/>
        </p:nvPicPr>
        <p:blipFill>
          <a:blip r:embed="rId1"/>
          <a:stretch/>
        </p:blipFill>
        <p:spPr>
          <a:xfrm>
            <a:off x="920880" y="-109440"/>
            <a:ext cx="751032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0" y="857160"/>
          <a:ext cx="9144000" cy="6218280"/>
        </p:xfrm>
        <a:graphic>
          <a:graphicData uri="http://schemas.openxmlformats.org/drawingml/2006/table">
            <a:tbl>
              <a:tblPr/>
              <a:tblGrid>
                <a:gridCol w="4154400"/>
                <a:gridCol w="498960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ИПИЧ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Ф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АК НЕОБХОДИМО ГОВОР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должен учиться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Я уверен(-а), что ты можешь хорошо учить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должен думать о будущем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Интересно, каким человеком ты хотел бы стать? Какую профессию планируешь выбрать?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  <a:tr h="9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должен уважать старших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Ты знаешь: уважение к старшим – это элемент общей культуры челове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должен слушаться учителей и родителей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Конечно, ты можешь иметь собственное мнение, но к мнению старших полезно прислушать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лжец!», «Ты опять врёшь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Мне жаль, что я опять выслушиваю неправду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Мне не нравится, когда меня обманывают. Постарайся больше так не дел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7"/>
          <p:cNvSpPr/>
          <p:nvPr/>
        </p:nvSpPr>
        <p:spPr>
          <a:xfrm>
            <a:off x="1071720" y="642960"/>
            <a:ext cx="7410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Я 1000 раз говорил (а ) тебе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ужели тебе трудно запомнит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ы становишь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чему Лена такая, а ты не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428760" y="357120"/>
            <a:ext cx="87152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ы у меня самый умный (и т. 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 хорошо, что у меня есть т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ы у меня молодец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Я тебя очень люблю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 ты хорошо это сделал, научи мен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пасибо тебе, я тебе очень благодарн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бы не ты, я бы никогда с этим не справила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ОСТУП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 любую минуту найти в себе силы отложить все свои дела, свою работу, чтобы пообщаться с ребёнк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льзя отмахив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льзя списывать на занят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льзя переносить на пот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бёнок начинает искать истину в подворотне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чина - родительская недоступность и неприкосновен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3628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удрость ответственности родителей в том, что они выполняют всегда то, что обещаю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Если по какой-то причине этого не произошло, находят в себе смелость признать своё неумение сдержать обещание и пытаются исправить собственные ошиб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чень часто родители берут ответственность за все поступки и проступки на себя, что обрекает их на неудачи в воспита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«Принципы толерантного общ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gradFill rotWithShape="0">
            <a:gsLst>
              <a:gs pos="0">
                <a:srgbClr val="b5fffa"/>
              </a:gs>
              <a:gs pos="100000">
                <a:srgbClr val="e8fffe"/>
              </a:gs>
            </a:gsLst>
            <a:lin ang="16200000"/>
          </a:gradFill>
          <a:ln w="9360">
            <a:solidFill>
              <a:srgbClr val="a4fb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ЙТЕ СВОБОД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НИКАКИХ НОТАЦИЙ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ИДИТЕ НА КОМПРОМИСС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СТУПАЕТ ТОТ, КТО УМНЕ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Е НАДО ОБИЖА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БУДЬТЕ ТВЕРДЫ И ПОСЛЕДОВАТЕЛЬНЫ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http://www.dzasokhov.ru/news/mezhnatcionalnie_otnosheniya.jpg"/>
          <p:cNvPicPr/>
          <p:nvPr/>
        </p:nvPicPr>
        <p:blipFill>
          <a:blip r:embed="rId1"/>
          <a:stretch/>
        </p:blipFill>
        <p:spPr>
          <a:xfrm>
            <a:off x="0" y="1500120"/>
            <a:ext cx="2428920" cy="20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perevodika.ru/upload/iblock/165/image020.jpg"/>
          <p:cNvPicPr/>
          <p:nvPr/>
        </p:nvPicPr>
        <p:blipFill>
          <a:blip r:embed="rId2"/>
          <a:stretch/>
        </p:blipFill>
        <p:spPr>
          <a:xfrm>
            <a:off x="7143840" y="3071880"/>
            <a:ext cx="200016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116000" y="1125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835280" y="2852640"/>
            <a:ext cx="2592360" cy="2664000"/>
          </a:xfrm>
          <a:prstGeom prst="pi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5940360" y="1844640"/>
            <a:ext cx="2592360" cy="2664000"/>
          </a:xfrm>
          <a:prstGeom prst="pi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050920" y="33336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ердечки настроений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43080" y="307188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У меня легко на сердце, когда: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6143760" y="20001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У меня тяжело на сердц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когда: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0" y="0"/>
            <a:ext cx="6767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Берегите своих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Их за шалости не ругай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Зло своих неудачных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Никогда на них не срывай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Не сердитесь на них всерьез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Даже если они провини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Ничего нет дороже слез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Что с ресничек родных скатил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C:\Documents and Settings\komar\Local Settings\Temporary Internet Files\Content.IE5\LBF3VL1Y\MC900123087[1].wmf"/>
          <p:cNvPicPr/>
          <p:nvPr/>
        </p:nvPicPr>
        <p:blipFill>
          <a:blip r:embed="rId1"/>
          <a:stretch/>
        </p:blipFill>
        <p:spPr>
          <a:xfrm>
            <a:off x="3773520" y="692280"/>
            <a:ext cx="53704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0" y="257040"/>
            <a:ext cx="6443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Если валит усталость с но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владать с нею нету моч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у, а к Вам подойдет сы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ли руки протянет доч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нимите покрепче и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етской ласкою дорож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Это счастье? Короткий ми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ыть счастливыми поспеши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C:\Documents and Settings\komar\Local Settings\Temporary Internet Files\Content.IE5\2BSCHSNO\MC900123071[1].wmf"/>
          <p:cNvPicPr/>
          <p:nvPr/>
        </p:nvPicPr>
        <p:blipFill>
          <a:blip r:embed="rId1"/>
          <a:stretch/>
        </p:blipFill>
        <p:spPr>
          <a:xfrm>
            <a:off x="5076720" y="115920"/>
            <a:ext cx="40672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457200" y="21420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ортрет современного подрос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571680" y="1103400"/>
            <a:ext cx="8215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нейшее психологическое приобретение этого возраста -  открытие своего внутреннего ми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озраст быстрых перемен в теле, в чувствах, позициях и оценках, отношениях с родителями и сверстник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ремя устремления в будущее, которое притягивает и тревожит, время, полное стрессов и путан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него характерен повышенный уровень притязаний, критическое отношение к взросл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ые переживания этого возраста — любовь и друж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 время формируется мировоззрение, начинается поиск смысла жизни. Центральное новообразование этого возраста — личностное самоопределение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0" y="0"/>
            <a:ext cx="6696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ак же будете Вы хоте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это время опять верну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тоб им маленьким песню спе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Щечки нежной губами косну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 пока в доме детский сме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  вопросов некуда де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ы на свете счастливей все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регите , пожалуйста, дет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C:\Documents and Settings\komar\Local Settings\Temporary Internet Files\Content.IE5\2BSCHSNO\MC900123071[1].wmf"/>
          <p:cNvPicPr/>
          <p:nvPr/>
        </p:nvPicPr>
        <p:blipFill>
          <a:blip r:embed="rId1"/>
          <a:stretch/>
        </p:blipFill>
        <p:spPr>
          <a:xfrm>
            <a:off x="5189400" y="14400"/>
            <a:ext cx="39639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 rot="20556600">
            <a:off x="-67320" y="1890360"/>
            <a:ext cx="89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ПАСИБО  ЗА  ВНИМАН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C:\Documents and Settings\komar\Local Settings\Temporary Internet Files\Content.IE5\LBF3VL1Y\MC900123087[1].wmf"/>
          <p:cNvPicPr/>
          <p:nvPr/>
        </p:nvPicPr>
        <p:blipFill>
          <a:blip r:embed="rId1"/>
          <a:stretch/>
        </p:blipFill>
        <p:spPr>
          <a:xfrm rot="669600">
            <a:off x="3854520" y="48960"/>
            <a:ext cx="48798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2"/>
          <p:cNvSpPr/>
          <p:nvPr/>
        </p:nvSpPr>
        <p:spPr>
          <a:xfrm>
            <a:off x="4214880" y="928800"/>
            <a:ext cx="46432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социации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Переходного возраст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ямство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•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фликт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ы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зрос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G:\наказание2.jpg"/>
          <p:cNvPicPr/>
          <p:nvPr/>
        </p:nvPicPr>
        <p:blipFill>
          <a:blip r:embed="rId1"/>
          <a:stretch/>
        </p:blipFill>
        <p:spPr>
          <a:xfrm>
            <a:off x="0" y="0"/>
            <a:ext cx="4572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571760" y="8571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нев                       Злоба                     агрес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63640" y="292428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79640" y="2708280"/>
            <a:ext cx="72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эмо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511280" y="48578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ь                       страх                        оби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5219640" y="393372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226836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101080" y="393372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5"/>
          <p:cNvSpPr/>
          <p:nvPr/>
        </p:nvSpPr>
        <p:spPr>
          <a:xfrm flipV="1">
            <a:off x="226836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521964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817236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ы вызывающего поведения подростк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480" y="1714320"/>
            <a:ext cx="195732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560" y="928440"/>
            <a:ext cx="511164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ХВАТАЕТ  ВНИМАНИЯ ВЗРОСЛЫ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ИЙ  УРОВЕНЬ ТРЕВОЖНОСТ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ЛЕРИЧЕСКИЙ ТЕМПЕРАМЕН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СУТСТВИЕ ДУШЕВНОЙ  БЛИЗОСТИ </a:t>
            </a:r>
            <a:r>
              <a:rPr b="1" lang="ru-RU" sz="2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родителями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371484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979640" y="33336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6 принципов общ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2268360" y="1844640"/>
            <a:ext cx="43200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 flipH="1">
            <a:off x="2987280" y="1989000"/>
            <a:ext cx="360360" cy="13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3924360" y="2133720"/>
            <a:ext cx="71280" cy="20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508720" y="2205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6588000" y="2205000"/>
            <a:ext cx="7164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740720" y="2133720"/>
            <a:ext cx="3603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403280" y="306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н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835280" y="3500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з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700360" y="41497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ительская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4500720" y="3284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443640" y="4076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5867280" y="364500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втор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857920" y="4643280"/>
            <a:ext cx="3286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758880"/>
          </a:xfrm>
          <a:prstGeom prst="rect">
            <a:avLst/>
          </a:prstGeom>
          <a:gradFill rotWithShape="0">
            <a:gsLst>
              <a:gs pos="0">
                <a:srgbClr val="6e6e6e"/>
              </a:gs>
              <a:gs pos="100000">
                <a:srgbClr val="929292"/>
              </a:gs>
            </a:gsLst>
            <a:lin ang="16200000"/>
          </a:gradFill>
          <a:ln w="9360">
            <a:solidFill>
              <a:srgbClr val="93939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ецепт общения родителей с деть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2428920" cy="2373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428920" y="1240200"/>
            <a:ext cx="671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зять приняти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авить к нему признани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ешать с определенным количеством родительской любви и доступност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авить собственной ответственност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правленной любящим отцовским и материнским авторитето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03:16Z</dcterms:created>
  <dc:creator>Piton</dc:creator>
  <dc:description/>
  <dc:language>en-US</dc:language>
  <cp:lastModifiedBy>Школа №3</cp:lastModifiedBy>
  <dcterms:modified xsi:type="dcterms:W3CDTF">2015-04-08T15:19:25Z</dcterms:modified>
  <cp:revision>96</cp:revision>
  <dc:subject/>
  <dc:title>РОДИТЕЛЬСКОЕ СОБРАНИЕ</dc:title>
</cp:coreProperties>
</file>