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4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2.wmf" ContentType="image/x-wmf"/>
  <Override PartName="/ppt/media/image9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E1ED-2EB5-497D-9D33-3DEA0C72CAA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42CE-B8F6-456C-836B-E32088286DD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7C7C0-8FB1-4452-B48C-A49B3EE175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0EB8-E5A6-4666-B7C4-B6F4ED4D82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3B326-9C83-4207-A066-E8C8C06416F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A4E5-1E72-48F7-8B8F-A3CA5746333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E1B9-E13E-448A-A8FA-CB6790EB12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B8474-1F81-43AB-878D-4597F4C3FF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9C567-8D0B-4389-9706-C732C3B0D5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D8A71-DD23-4D4A-9CDB-74AAC09710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B88EB-3577-4170-B591-AD4E370E5F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D3CD-4A5D-4141-8281-1D90BA261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E29C-EE75-4096-9B8D-2008F60485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44F3B-EE84-4B55-9FCB-15788DB818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5074-99C4-4C2C-8E04-F7A473FCAB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753B7-579D-4B52-B333-1C7B00151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EF8AA-F540-4E22-AF1A-FBFF9BB639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A158A-E202-4B73-9469-9DD562E415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9B85-3DFD-4D9E-92E2-C7823EB649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27627-6439-4CB2-AAD2-67AA00EFFE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CB0-4315-4409-891F-7003198CD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1CA5-3A27-4BE6-9D8E-047A2DC7D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08EC-FA9D-436F-9E9E-A271F6F08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4EBD-1443-438C-9D24-4D8C655E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7FDD6-E488-44E9-9750-F46D2D21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34656E5-6C70-40C0-BD83-8E331195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C5A89B-6E35-4642-B949-ECB7F04A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DEBDDF-D113-48A3-A1C0-F429AEAEB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78CB27-1BC1-4639-AA83-EAF764D8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58E859-8775-40BF-90F4-EBC899FD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67252-95C1-424A-AA3E-3B178B77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930CE-4D6C-47DA-BC7A-21AF9B588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25434E-AAE1-49FE-815A-FEDD9987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431EF0-549A-43C7-8DE4-C334954A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4E8705-E39B-4265-B931-BDCF972FC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3F455-8CE9-4588-B9F3-5449A3BBD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135771-2EBD-4B2E-BBC0-589CB0E19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A579-9387-4711-865B-170A96EB6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19DF-8468-436E-AB94-638A292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FC69-E9FC-427C-8ECE-834CFB194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020E-0704-4C37-9978-DA378725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CD3A-0CB5-4DA4-B870-B0A61125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D539-FB88-4940-A392-A937DF204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8449-ACD6-404C-BABA-600F93C9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D23-D33D-4C23-9CA2-498A8417C57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Freeform 4"/>
          <p:cNvSpPr/>
          <p:nvPr/>
        </p:nvSpPr>
        <p:spPr>
          <a:xfrm>
            <a:off x="7574040" y="5902200"/>
            <a:ext cx="1569960" cy="9558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5"/>
          <p:cNvSpPr/>
          <p:nvPr/>
        </p:nvSpPr>
        <p:spPr>
          <a:xfrm>
            <a:off x="7575480" y="6176880"/>
            <a:ext cx="1568520" cy="68112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0" y="0"/>
            <a:ext cx="2211480" cy="6858000"/>
          </a:xfrm>
          <a:prstGeom prst="pie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Freeform 9"/>
          <p:cNvSpPr/>
          <p:nvPr/>
        </p:nvSpPr>
        <p:spPr>
          <a:xfrm>
            <a:off x="3240" y="-15840"/>
            <a:ext cx="1522440" cy="6873840"/>
          </a:xfrm>
          <a:prstGeom prst="pie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4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2D67-44B7-45F7-9608-462E19934B7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dt" idx="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Прямоугольник 1" descr=""/>
          <p:cNvPicPr/>
          <p:nvPr/>
        </p:nvPicPr>
        <p:blipFill>
          <a:blip r:embed="rId1"/>
          <a:stretch/>
        </p:blipFill>
        <p:spPr>
          <a:xfrm>
            <a:off x="890640" y="36360"/>
            <a:ext cx="8435880" cy="1938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0" y="2143080"/>
            <a:ext cx="91440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642680" y="-360"/>
            <a:ext cx="6867720" cy="78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нятие</a:t>
            </a: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ебён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9680" y="785520"/>
            <a:ext cx="86439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1000"/>
          </a:bodyPr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нять – значит любить не за отметку или убранную кровать, а за сам факт его существования в этом мир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нятие, зависящее от поступков, это принятие условное, имеющее игровой подтекс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spcBef>
                <a:spcPts val="134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Игровое принятие имеет искусственный привкус, в основе которого  безразличие и обман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5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0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5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0764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РИЗН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295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ует у детей чувство собственной значимости и необходимости в своей семье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ризнавая собственного ребёнка, многие рисуют идеализированный образ, который складывается из желаемого и далёкого  от реальной действительност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Как только представления расходятся с действительностью, то появляется проблема в общении между родителями и  детьм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8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8" dur="500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Прямоугольник 1"/>
          <p:cNvSpPr/>
          <p:nvPr/>
        </p:nvSpPr>
        <p:spPr>
          <a:xfrm>
            <a:off x="357120" y="357120"/>
            <a:ext cx="850104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Если ребёнок хорош, значит любим, признан, принят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Если нет, это приводит к раздраж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знание 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редполагает одобрение,  похвалу, положительную реакцию семьи на любое незначительное усилие со стороны ребён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f"/>
                </a:solidFill>
                <a:latin typeface="Times New Roman"/>
              </a:rPr>
              <a:t>Признание не может быть эпизодическим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Прямоугольник 1"/>
          <p:cNvSpPr/>
          <p:nvPr/>
        </p:nvSpPr>
        <p:spPr>
          <a:xfrm>
            <a:off x="500040" y="0"/>
            <a:ext cx="8643960" cy="61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Если требования предъявляются, но любви ребёнок  не ощущает,  эти требования  останутся невыполнимым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Родительская  любовь  должна искать  в  своём  ребёнке достоинств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едостатки, как правило, всегда лежат  на поверхности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1"/>
          <p:cNvSpPr/>
          <p:nvPr/>
        </p:nvSpPr>
        <p:spPr>
          <a:xfrm>
            <a:off x="428760" y="357120"/>
            <a:ext cx="82152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Ребёнок должен сам извиняться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Он должен пережить стыд, а порой и унижение для того, чтобы такого больше не совершать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Воспитывать ответственность- это, значит, использовать метод ограничения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Необходимо говорить ребёнку «нет». Умение говорить «нет»- это обоюдное решение  родителей.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TextBox 1"/>
          <p:cNvSpPr/>
          <p:nvPr/>
        </p:nvSpPr>
        <p:spPr>
          <a:xfrm>
            <a:off x="2071800" y="1000080"/>
            <a:ext cx="66434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лай так, как тебе говорю я, или вообще не делай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жешь делать, что  хочеш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не все равно, что ты делаеш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Я хочу понять, почему ты так делаеш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1071360"/>
            <a:ext cx="9756720" cy="54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Авторитет родителей -</a:t>
            </a:r>
            <a:br>
              <a:rPr sz="4000"/>
            </a:br>
            <a:r>
              <a:rPr b="1" lang="ru-RU" sz="4000" spc="-1" strike="noStrike">
                <a:solidFill>
                  <a:srgbClr val="ffffff"/>
                </a:solidFill>
                <a:latin typeface="Times New Roman"/>
              </a:rPr>
              <a:t>важная составляющая успешного воспитания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4"/>
          <p:cNvSpPr/>
          <p:nvPr/>
        </p:nvSpPr>
        <p:spPr>
          <a:xfrm flipH="1">
            <a:off x="1834920" y="2781360"/>
            <a:ext cx="649080" cy="1079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 flipH="1">
            <a:off x="2916360" y="3068640"/>
            <a:ext cx="504720" cy="1152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H="1">
            <a:off x="4211280" y="3068640"/>
            <a:ext cx="142920" cy="158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Line 7"/>
          <p:cNvSpPr/>
          <p:nvPr/>
        </p:nvSpPr>
        <p:spPr>
          <a:xfrm>
            <a:off x="6516720" y="2997360"/>
            <a:ext cx="287280" cy="1223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Line 8"/>
          <p:cNvSpPr/>
          <p:nvPr/>
        </p:nvSpPr>
        <p:spPr>
          <a:xfrm>
            <a:off x="7740720" y="2852640"/>
            <a:ext cx="57636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1143000" y="385776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любв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857160" y="4221000"/>
            <a:ext cx="3137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родительского</a:t>
            </a: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ло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1"/>
          <p:cNvSpPr/>
          <p:nvPr/>
        </p:nvSpPr>
        <p:spPr>
          <a:xfrm>
            <a:off x="3286080" y="4724280"/>
            <a:ext cx="186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доброт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2"/>
          <p:cNvSpPr/>
          <p:nvPr/>
        </p:nvSpPr>
        <p:spPr>
          <a:xfrm>
            <a:off x="6072120" y="4500720"/>
            <a:ext cx="181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куп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3"/>
          <p:cNvSpPr/>
          <p:nvPr/>
        </p:nvSpPr>
        <p:spPr>
          <a:xfrm>
            <a:off x="6929280" y="4076640"/>
            <a:ext cx="254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под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14"/>
          <p:cNvSpPr/>
          <p:nvPr/>
        </p:nvSpPr>
        <p:spPr>
          <a:xfrm>
            <a:off x="4932360" y="1773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Line 15"/>
          <p:cNvSpPr/>
          <p:nvPr/>
        </p:nvSpPr>
        <p:spPr>
          <a:xfrm>
            <a:off x="5364000" y="3068640"/>
            <a:ext cx="0" cy="12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6"/>
          <p:cNvSpPr/>
          <p:nvPr/>
        </p:nvSpPr>
        <p:spPr>
          <a:xfrm>
            <a:off x="4286160" y="4143240"/>
            <a:ext cx="237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назид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8"/>
          <p:cNvSpPr/>
          <p:nvPr/>
        </p:nvSpPr>
        <p:spPr>
          <a:xfrm>
            <a:off x="2556000" y="18446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00"/>
                </a:solidFill>
                <a:latin typeface="Arial"/>
              </a:rPr>
              <a:t>Ложный авторите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-28620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ЮБ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14200" y="1142640"/>
            <a:ext cx="87156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Детям нужно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чтобы    их  любили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11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Любовь необходима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,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чтобы ребёнок мог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адекватно реагировать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на </a:t>
            </a:r>
            <a:r>
              <a:rPr b="0" lang="ru-RU" sz="4800" spc="-1" strike="noStrike">
                <a:solidFill>
                  <a:srgbClr val="ffff00"/>
                </a:solidFill>
                <a:latin typeface="Times New Roman"/>
              </a:rPr>
              <a:t>те </a:t>
            </a:r>
            <a:r>
              <a:rPr b="1" lang="ru-RU" sz="4800" spc="-1" strike="noStrike">
                <a:solidFill>
                  <a:srgbClr val="ffff00"/>
                </a:solidFill>
                <a:latin typeface="Times New Roman"/>
              </a:rPr>
              <a:t>требования, которые к нему предъявляют в семь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6" dur="5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1" dur="500"/>
                                        <p:tgtEl>
                                          <p:spTgt spid="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Любов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56840" y="1213920"/>
            <a:ext cx="7572600" cy="41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1. Показная демонстрация родительской любв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2. Заласкивание ребё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99ccff"/>
              </a:buClr>
              <a:buSzPct val="85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3. Выполнение его желаний в ответ на проявление нежности к родителя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  В этих семьях чаще вырастают циники. Расчётливые, жестокие и агрессивные люд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4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9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4" dur="5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9" dur="5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Box 1"/>
          <p:cNvSpPr/>
          <p:nvPr/>
        </p:nvSpPr>
        <p:spPr>
          <a:xfrm>
            <a:off x="2071800" y="714240"/>
            <a:ext cx="6643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ВОБОДА + ЛЮБОВ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действует гармоничному развитию детской лич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Это идеальное соотношение в детско-родительских отношениях. Потому что оно содержит «два счастья в одном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бенок, которого любят, принимает себя таким, каким он е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https://docs.google.com/viewer?url=http%3A%2F%2Fnsportal.ru%2Fsites%2Fdefault%2Ffiles%2F2013%2F12%2Fpervye_problemy_podrostkovogo_perioda.ppt&amp;docid=10426b4e160639ebbe2f40be9d2bba89&amp;a=bi&amp;pagenumber=1&amp;w=5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1"/>
          <p:cNvSpPr/>
          <p:nvPr/>
        </p:nvSpPr>
        <p:spPr>
          <a:xfrm>
            <a:off x="1643040" y="428760"/>
            <a:ext cx="7143840" cy="59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ЕПАЯ   РОДИТЕЛЬСКАЯ  ЛЮБОВЬ + КОНТРО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азрушает детскую личность. Большой риск  развития различных форм зависимости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лепая  родительская любовь, умноженная на тотальный контроль – очень опасный коктейль.  По мнению психологов, именно от таких отношений дети чаще всего убегают в « химическую зависимость»- и в первую очередь это наркотик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Box 1"/>
          <p:cNvSpPr/>
          <p:nvPr/>
        </p:nvSpPr>
        <p:spPr>
          <a:xfrm>
            <a:off x="2071800" y="500040"/>
            <a:ext cx="6572160" cy="49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ОНТРОЛЬ + НЕЛЮБ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азрушает детскую личн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ебенок, живущий в семье , где  запрещены искренние чувства, всегд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увствует  что его не любят. Ему трудно жить в «ледяной « атмосфере.. Часто дети из таких семей не видят для себя выхода.  По мнению психологов, именно в таких семьях наивысший уровень детских суицид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1"/>
          <p:cNvSpPr/>
          <p:nvPr/>
        </p:nvSpPr>
        <p:spPr>
          <a:xfrm>
            <a:off x="2000160" y="500040"/>
            <a:ext cx="6858000" cy="48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ВОБОДА  +  НЕЛЮБОВ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аёт возможность для развития детской личности, но   большой риск физической гибели  или  травмирования ребенка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ти получают практически неограниченную свободу выбора – поскольку они никому не нужны. Их не любят. Внутри у них остается всегда огромная пропасть. Они всегда остаются в группе рис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31640" y="333000"/>
            <a:ext cx="755964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Родительского          полож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356840" y="1571400"/>
            <a:ext cx="75726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Родители, занимающие высокие посты, демонстрируют своё положение и заслуги на каждом шагу: соседям, знакомы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*  Дети очень быстро начинают пользоваться родительскими заслугами. Не умея критически взглянуть на себя со стороны, становятся хвастливыми и высокомерны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2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7" dur="5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292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брот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85480" y="1071360"/>
            <a:ext cx="848988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слушание детей приобретается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родительской доброто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мягк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уступчив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- беспринципность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одители боятся конфликтов и уходят от них, принося себя в жертв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Дети капризны, требовательны, командуют родител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8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1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4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47" dur="500"/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2" dur="500"/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дкуп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42640" y="1285560"/>
            <a:ext cx="748332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Хорошее поведение покупается подарками или обещаниями каких-либо бла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 В таких условиях дети, исходя из личной выгоды, лавируют, приспосабливаются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5" dur="5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0" dur="5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47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Назида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71320" y="1214280"/>
            <a:ext cx="835812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бёнка мучают бесконечными поучениями и назидательными разговорами. В качестве примера приводят собственный опыт, который не всегда  является  положительны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* Дети озлобляются против нравоучений, привыкают к ним и перестают на них реагировать, отказываются слушать и слышать своих роди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3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5684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Подавлени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85840" y="1071360"/>
            <a:ext cx="885816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о каждому поводу родители раздражаются, сердятся, повышают голос, прибегают подчас и к физическим методам воздейств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spcBef>
                <a:spcPts val="7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При таком терроре ребёнок вырастает безвольным, запуганным или, наоборот, самодуром, мстящим за подавленное дет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*Подавление  страшно  своим эффектом бумеранга. Тот, кого подавляют очень хочет компенсировать собственное подавление и зачастую это у него получается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9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1"/>
          <p:cNvSpPr/>
          <p:nvPr/>
        </p:nvSpPr>
        <p:spPr>
          <a:xfrm>
            <a:off x="571680" y="241200"/>
            <a:ext cx="82152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дантизм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      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одители, не считаясь с мнением ребенка, отдают приказы и требуют точного и беспрекословного их выполнения. Дети из таких семей либо подчиняются, и тогда страдают от отсутствия самостоятельности, либо сопротивляются требованиям взрослых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1"/>
          <p:cNvSpPr/>
          <p:nvPr/>
        </p:nvSpPr>
        <p:spPr>
          <a:xfrm>
            <a:off x="500040" y="665640"/>
            <a:ext cx="835812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постоянно критикует, он учится…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живет во вражде, он учится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упреках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терпим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хваля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честн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растет в безопасност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поддерживаю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ка высмеивают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сли ребенок живет в понимании и дружелюбии, он учит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50028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Прямоугольник 4"/>
          <p:cNvSpPr/>
          <p:nvPr/>
        </p:nvSpPr>
        <p:spPr>
          <a:xfrm>
            <a:off x="3571920" y="1071720"/>
            <a:ext cx="535788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дростки решают судьб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ьёзных взрослых люд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своих одиноких прогулках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 компании шумной сво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и намечают цели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и выбирают пу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 этого выбора взрослы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рой никуда не у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Валентин Берестов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4"/>
          <p:cNvSpPr/>
          <p:nvPr/>
        </p:nvSpPr>
        <p:spPr>
          <a:xfrm>
            <a:off x="285840" y="0"/>
            <a:ext cx="8858160" cy="64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критики, они учатся критиковать и осуждать других люд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вражды они учатся быть злыми, учатся дратьс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среди насмешек. Они становятся нерешительными и излишне скромным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дети живут в обстановке стыда и смущения. Чувство собственного достоинства уступает место чувству ви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роти Нол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Заголовок 4" descr=""/>
          <p:cNvPicPr/>
          <p:nvPr/>
        </p:nvPicPr>
        <p:blipFill>
          <a:blip r:embed="rId1"/>
          <a:stretch/>
        </p:blipFill>
        <p:spPr>
          <a:xfrm>
            <a:off x="920880" y="-109440"/>
            <a:ext cx="7510320" cy="755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7" name=""/>
          <p:cNvGraphicFramePr/>
          <p:nvPr/>
        </p:nvGraphicFramePr>
        <p:xfrm>
          <a:off x="0" y="857160"/>
          <a:ext cx="9144000" cy="6218280"/>
        </p:xfrm>
        <a:graphic>
          <a:graphicData uri="http://schemas.openxmlformats.org/drawingml/2006/table">
            <a:tbl>
              <a:tblPr/>
              <a:tblGrid>
                <a:gridCol w="4154400"/>
                <a:gridCol w="4989600"/>
              </a:tblGrid>
              <a:tr h="853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ТИПИЧНА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ФРА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КАК НЕОБХОДИМО ГОВОРИ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74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учиться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Я уверен(-а), что ты можешь хорошо учить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думать о будущем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Интересно, каким человеком ты хотел бы стать? Какую профессию планируешь выбрать?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91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уважать старших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Ты знаешь: уважение к старшим – это элемент общей культуры человека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должен слушаться учителей и родителей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Конечно, ты можешь иметь собственное мнение, но к мнению старших полезно прислушаться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  <a:tr h="1681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Ты лжец!», «Ты опять врёшь!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Мне жаль, что я опять выслушиваю неправду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«Мне не нравится, когда меня обманывают. Постарайся больше так не делать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ddeaf3"/>
                    </a:solidFill>
                  </a:tcPr>
                </a:tc>
              </a:tr>
            </a:tbl>
          </a:graphicData>
        </a:graphic>
      </p:graphicFrame>
    </p:spTree>
  </p:cSld>
  <p:transition spd="med">
    <p:pull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7"/>
          <p:cNvSpPr/>
          <p:nvPr/>
        </p:nvSpPr>
        <p:spPr>
          <a:xfrm>
            <a:off x="1071720" y="642960"/>
            <a:ext cx="741024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1000 раз говорил (а ) тебе, что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колько раз надо повторя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 чём ты только думаеш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ужели тебе трудно запомнит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становишьс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Отстань, некогда мне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Почему Лена такая, а ты нет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4"/>
          <p:cNvSpPr/>
          <p:nvPr/>
        </p:nvSpPr>
        <p:spPr>
          <a:xfrm>
            <a:off x="428760" y="357120"/>
            <a:ext cx="8715240" cy="55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у меня самый умный (и т. д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хорошо, что у меня есть ты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Ты у меня молодец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Я тебя очень люблю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Как ты хорошо это сделал, научи меня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Спасибо тебе, я тебе очень благодарна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Если бы не ты, я бы никогда с этим не справилась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0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192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ДОСТУП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14280"/>
            <a:ext cx="914400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В любую минуту найти в себе силы отложить все свои дела, свою работу, чтобы пообщаться с ребёнк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отмахиватьс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списывать на занятос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Нельзя переносить на пот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imes New Roman"/>
              </a:rPr>
              <a:t>Ребёнок начинает искать истину в подворотне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spcBef>
                <a:spcPts val="7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</a:rPr>
              <a:t>Причина - родительская недоступность и неприкосновенност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3" dur="5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8" dur="500"/>
                                        <p:tgtEl>
                                          <p:spTgt spid="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3" dur="500"/>
                                        <p:tgtEl>
                                          <p:spTgt spid="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8" dur="500"/>
                                        <p:tgtEl>
                                          <p:spTgt spid="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3" dur="500"/>
                                        <p:tgtEl>
                                          <p:spTgt spid="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68" dur="500"/>
                                        <p:tgtEl>
                                          <p:spTgt spid="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736280" y="-360"/>
            <a:ext cx="686772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</a:rPr>
              <a:t>Ответственность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415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Мудрость ответственности родителей в том, что они выполняют всегда то, что обещают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Если по какой-то причине этого не произошло, находят в себе смелость признать своё неумение сдержать обещание и пытаются исправить собственные ошибки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Очень часто родители берут ответственность за все поступки и проступки на себя, что обрекает их на неудачи в воспитании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469880"/>
          </a:xfrm>
          <a:prstGeom prst="rect">
            <a:avLst/>
          </a:prstGeom>
          <a:solidFill>
            <a:srgbClr val="000000"/>
          </a:solidFill>
          <a:ln w="38160">
            <a:solidFill>
              <a:srgbClr val="0099cc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Рекомендации </a:t>
            </a:r>
            <a:br>
              <a:rPr sz="3600"/>
            </a:br>
            <a:r>
              <a:rPr b="0" i="1" lang="ru-RU" sz="3600" spc="-1" strike="noStrike">
                <a:solidFill>
                  <a:srgbClr val="ffffff"/>
                </a:solidFill>
                <a:latin typeface="Times New Roman"/>
              </a:rPr>
              <a:t>«Принципы толерантного общения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0" y="1499760"/>
            <a:ext cx="9144000" cy="5357880"/>
          </a:xfrm>
          <a:prstGeom prst="rect">
            <a:avLst/>
          </a:prstGeom>
          <a:gradFill rotWithShape="0">
            <a:gsLst>
              <a:gs pos="0">
                <a:srgbClr val="b5fffa"/>
              </a:gs>
              <a:gs pos="100000">
                <a:srgbClr val="e8fffe"/>
              </a:gs>
            </a:gsLst>
            <a:lin ang="16200000"/>
          </a:gradFill>
          <a:ln w="9360">
            <a:solidFill>
              <a:srgbClr val="a4fbde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</a:rPr>
              <a:t>ДАЙТЕ СВОБОДУ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НИКАКИХ НОТАЦИЙ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Times New Roman"/>
              </a:rPr>
              <a:t>ИДИТЕ НА КОМПРОМИСС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УСТУПАЕТ ТОТ, КТО УМНЕЕ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НЕ НАДО ОБИЖАТЬ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</a:rPr>
              <a:t>БУДЬТЕ ТВЕРДЫ И ПОСЛЕДОВАТЕЛЬНЫ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2" descr="http://www.dzasokhov.ru/news/mezhnatcionalnie_otnosheniya.jpg"/>
          <p:cNvPicPr/>
          <p:nvPr/>
        </p:nvPicPr>
        <p:blipFill>
          <a:blip r:embed="rId1"/>
          <a:stretch/>
        </p:blipFill>
        <p:spPr>
          <a:xfrm>
            <a:off x="0" y="1500120"/>
            <a:ext cx="2428920" cy="2000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http://perevodika.ru/upload/iblock/165/image020.jpg"/>
          <p:cNvPicPr/>
          <p:nvPr/>
        </p:nvPicPr>
        <p:blipFill>
          <a:blip r:embed="rId2"/>
          <a:stretch/>
        </p:blipFill>
        <p:spPr>
          <a:xfrm>
            <a:off x="7143840" y="3071880"/>
            <a:ext cx="2000160" cy="257184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 Box 4"/>
          <p:cNvSpPr/>
          <p:nvPr/>
        </p:nvSpPr>
        <p:spPr>
          <a:xfrm>
            <a:off x="1116000" y="1125360"/>
            <a:ext cx="734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AutoShape 5"/>
          <p:cNvSpPr/>
          <p:nvPr/>
        </p:nvSpPr>
        <p:spPr>
          <a:xfrm>
            <a:off x="1835280" y="2852640"/>
            <a:ext cx="2592360" cy="2664000"/>
          </a:xfrm>
          <a:prstGeom prst="pi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6"/>
          <p:cNvSpPr/>
          <p:nvPr/>
        </p:nvSpPr>
        <p:spPr>
          <a:xfrm>
            <a:off x="5940360" y="1844640"/>
            <a:ext cx="2592360" cy="2664000"/>
          </a:xfrm>
          <a:prstGeom prst="pi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2050920" y="333360"/>
            <a:ext cx="676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Сердечки настроений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8"/>
          <p:cNvSpPr/>
          <p:nvPr/>
        </p:nvSpPr>
        <p:spPr>
          <a:xfrm>
            <a:off x="2143080" y="3071880"/>
            <a:ext cx="2016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У меня легко на сердце, когда:…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9"/>
          <p:cNvSpPr/>
          <p:nvPr/>
        </p:nvSpPr>
        <p:spPr>
          <a:xfrm>
            <a:off x="6143760" y="20001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У меня тяжело на сердце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cc"/>
                </a:solidFill>
                <a:latin typeface="Times New Roman"/>
              </a:rPr>
              <a:t>когда:……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2" dur="indefinite" restart="never" nodeType="tmRoot">
          <p:childTnLst>
            <p:seq>
              <p:cTn id="493" dur="indefinite" nodeType="mainSeq">
                <p:childTnLst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8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1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2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6,-106,-106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Прямоугольник 1"/>
          <p:cNvSpPr/>
          <p:nvPr/>
        </p:nvSpPr>
        <p:spPr>
          <a:xfrm>
            <a:off x="0" y="0"/>
            <a:ext cx="676764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Берегите своих дете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Их за шалости не руг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Зло своих неудачных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икогда на них не срывай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е сердитесь на них всерьез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Даже если они провинилис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Ничего нет дороже слез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Meiryo"/>
                <a:ea typeface="Meiryo"/>
              </a:rPr>
              <a:t>Что с ресничек родных скатились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" descr="C:\Documents and Settings\komar\Local Settings\Temporary Internet Files\Content.IE5\LBF3VL1Y\MC900123087[1].wmf"/>
          <p:cNvPicPr/>
          <p:nvPr/>
        </p:nvPicPr>
        <p:blipFill>
          <a:blip r:embed="rId1"/>
          <a:stretch/>
        </p:blipFill>
        <p:spPr>
          <a:xfrm>
            <a:off x="3773520" y="692280"/>
            <a:ext cx="5370480" cy="51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Прямоугольник 1"/>
          <p:cNvSpPr/>
          <p:nvPr/>
        </p:nvSpPr>
        <p:spPr>
          <a:xfrm>
            <a:off x="0" y="257040"/>
            <a:ext cx="64436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Если валит усталость с но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Совладать с нею нету мочи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Ну, а к Вам подойдет сын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ли руки протянет доч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бнимите покрепче и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Детской ласкою дорожит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Это счастье? Короткий миг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ыть счастливыми поспешит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2" descr="C:\Documents and Settings\komar\Local Settings\Temporary Internet Files\Content.IE5\2BSCHSNO\MC900123071[1].wmf"/>
          <p:cNvPicPr/>
          <p:nvPr/>
        </p:nvPicPr>
        <p:blipFill>
          <a:blip r:embed="rId1"/>
          <a:stretch/>
        </p:blipFill>
        <p:spPr>
          <a:xfrm>
            <a:off x="5076720" y="115920"/>
            <a:ext cx="4067280" cy="67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457200" y="214200"/>
            <a:ext cx="8673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</a:rPr>
              <a:t>Портрет современного подрост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2"/>
          <p:cNvSpPr/>
          <p:nvPr/>
        </p:nvSpPr>
        <p:spPr>
          <a:xfrm>
            <a:off x="571680" y="1103400"/>
            <a:ext cx="8215200" cy="57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нейшее психологическое приобретение этого возраста -  открытие своего внутреннего ми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озраст быстрых перемен в теле, в чувствах, позициях и оценках, отношениях с родителями и сверстникам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о время устремления в будущее, которое притягивает и тревожит, время, полное стрессов и путаницы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него характерен повышенный уровень притязаний, критическое отношение к взрослы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ючевые переживания этого возраста — любовь и дружб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это время формируется мировоззрение, начинается поиск смысла жизни. Центральное новообразование этого возраста — личностное самоопределение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оугольник 1"/>
          <p:cNvSpPr/>
          <p:nvPr/>
        </p:nvSpPr>
        <p:spPr>
          <a:xfrm>
            <a:off x="0" y="0"/>
            <a:ext cx="6696000" cy="69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       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Как же будете Вы хотет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 это время опять вернуть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Чтоб им маленьким песню спе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Щечки нежной губами коснутьс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И пока в доме детский сме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От  вопросов некуда деться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Вы на свете счастливей всех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ерегите , пожалуйста, детств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2" descr="C:\Documents and Settings\komar\Local Settings\Temporary Internet Files\Content.IE5\2BSCHSNO\MC900123071[1].wmf"/>
          <p:cNvPicPr/>
          <p:nvPr/>
        </p:nvPicPr>
        <p:blipFill>
          <a:blip r:embed="rId1"/>
          <a:stretch/>
        </p:blipFill>
        <p:spPr>
          <a:xfrm>
            <a:off x="5189400" y="14400"/>
            <a:ext cx="3963960" cy="52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1"/>
          <p:cNvSpPr/>
          <p:nvPr/>
        </p:nvSpPr>
        <p:spPr>
          <a:xfrm rot="20556600">
            <a:off x="-67320" y="1890360"/>
            <a:ext cx="896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Times New Roman"/>
              </a:rPr>
              <a:t>СПАСИБО  ЗА  ВНИМАНЕ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Picture 4" descr="C:\Documents and Settings\komar\Local Settings\Temporary Internet Files\Content.IE5\LBF3VL1Y\MC900123087[1].wmf"/>
          <p:cNvPicPr/>
          <p:nvPr/>
        </p:nvPicPr>
        <p:blipFill>
          <a:blip r:embed="rId1"/>
          <a:stretch/>
        </p:blipFill>
        <p:spPr>
          <a:xfrm rot="669600">
            <a:off x="3854520" y="48960"/>
            <a:ext cx="4879800" cy="65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2"/>
          <p:cNvSpPr/>
          <p:nvPr/>
        </p:nvSpPr>
        <p:spPr>
          <a:xfrm>
            <a:off x="4214880" y="928800"/>
            <a:ext cx="46432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ссоциации</a:t>
            </a: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Переходного возраста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прямство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фликт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блемы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•</a:t>
            </a:r>
            <a:r>
              <a:rPr b="1" lang="ru-RU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зрослени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G:\наказание2.jpg"/>
          <p:cNvPicPr/>
          <p:nvPr/>
        </p:nvPicPr>
        <p:blipFill>
          <a:blip r:embed="rId1"/>
          <a:stretch/>
        </p:blipFill>
        <p:spPr>
          <a:xfrm>
            <a:off x="0" y="0"/>
            <a:ext cx="457200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5"/>
          <p:cNvSpPr/>
          <p:nvPr/>
        </p:nvSpPr>
        <p:spPr>
          <a:xfrm>
            <a:off x="1571760" y="85716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Гнев                       Злоба                     агресс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1763640" y="2924280"/>
            <a:ext cx="720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79640" y="2708280"/>
            <a:ext cx="72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                                      </a:t>
            </a:r>
            <a:r>
              <a:rPr b="1" lang="ru-RU" sz="4400" spc="-1" strike="noStrike">
                <a:solidFill>
                  <a:srgbClr val="ffff00"/>
                </a:solidFill>
                <a:latin typeface="Times New Roman"/>
              </a:rPr>
              <a:t>эмо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1511280" y="48578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ь                       страх                        оби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Line 9"/>
          <p:cNvSpPr/>
          <p:nvPr/>
        </p:nvSpPr>
        <p:spPr>
          <a:xfrm>
            <a:off x="5219640" y="39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Line 10"/>
          <p:cNvSpPr/>
          <p:nvPr/>
        </p:nvSpPr>
        <p:spPr>
          <a:xfrm>
            <a:off x="2268360" y="3860640"/>
            <a:ext cx="0" cy="7923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8101080" y="393372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5"/>
          <p:cNvSpPr/>
          <p:nvPr/>
        </p:nvSpPr>
        <p:spPr>
          <a:xfrm flipV="1">
            <a:off x="226836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Line 16"/>
          <p:cNvSpPr/>
          <p:nvPr/>
        </p:nvSpPr>
        <p:spPr>
          <a:xfrm flipV="1">
            <a:off x="521964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Line 17"/>
          <p:cNvSpPr/>
          <p:nvPr/>
        </p:nvSpPr>
        <p:spPr>
          <a:xfrm flipV="1">
            <a:off x="8172360" y="148428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42560" y="356760"/>
            <a:ext cx="9001080" cy="7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чины вызывающего поведения подростков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85480" y="1714320"/>
            <a:ext cx="1957320" cy="47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571560" y="928440"/>
            <a:ext cx="5111640" cy="563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 ХВАТАЕТ  ВНИМАНИЯ ВЗРОСЛЫХ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СОКИЙ  УРОВЕНЬ ТРЕВОЖНОСТИ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624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ОЛЕРИЧЕСКИЙ ТЕМПЕРАМЕНТ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26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ТСУТСТВИЕ ДУШЕВНОЙ  БЛИЗОСТИ </a:t>
            </a:r>
            <a:r>
              <a:rPr b="1" lang="ru-RU" sz="2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 родителями.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3714840" cy="5572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1979640" y="333360"/>
            <a:ext cx="6842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imes New Roman"/>
              </a:rPr>
              <a:t>6 принципов общени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6"/>
          <p:cNvSpPr/>
          <p:nvPr/>
        </p:nvSpPr>
        <p:spPr>
          <a:xfrm flipH="1">
            <a:off x="2268360" y="1844640"/>
            <a:ext cx="432000" cy="12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7"/>
          <p:cNvSpPr/>
          <p:nvPr/>
        </p:nvSpPr>
        <p:spPr>
          <a:xfrm flipH="1">
            <a:off x="2987280" y="1989000"/>
            <a:ext cx="360360" cy="1368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8"/>
          <p:cNvSpPr/>
          <p:nvPr/>
        </p:nvSpPr>
        <p:spPr>
          <a:xfrm flipH="1">
            <a:off x="3924360" y="2133720"/>
            <a:ext cx="71280" cy="2087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9"/>
          <p:cNvSpPr/>
          <p:nvPr/>
        </p:nvSpPr>
        <p:spPr>
          <a:xfrm>
            <a:off x="5508720" y="2205000"/>
            <a:ext cx="0" cy="115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6588000" y="2205000"/>
            <a:ext cx="71640" cy="1513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Line 11"/>
          <p:cNvSpPr/>
          <p:nvPr/>
        </p:nvSpPr>
        <p:spPr>
          <a:xfrm>
            <a:off x="7740720" y="2133720"/>
            <a:ext cx="36036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403280" y="3068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ня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835280" y="350028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призна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2700360" y="414972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Родительская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любов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4500720" y="3284640"/>
            <a:ext cx="21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доступ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6443640" y="4076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ответственн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5867280" y="3645000"/>
            <a:ext cx="20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авторите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5857920" y="4643280"/>
            <a:ext cx="328608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758880"/>
          </a:xfrm>
          <a:prstGeom prst="rect">
            <a:avLst/>
          </a:prstGeom>
          <a:gradFill rotWithShape="0">
            <a:gsLst>
              <a:gs pos="0">
                <a:srgbClr val="6e6e6e"/>
              </a:gs>
              <a:gs pos="100000">
                <a:srgbClr val="929292"/>
              </a:gs>
            </a:gsLst>
            <a:lin ang="16200000"/>
          </a:gradFill>
          <a:ln w="9360">
            <a:solidFill>
              <a:srgbClr val="939393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Рецепт общения родителей с детьм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2428920" cy="2373480"/>
          </a:xfrm>
          <a:prstGeom prst="rect">
            <a:avLst/>
          </a:prstGeom>
          <a:ln w="0">
            <a:noFill/>
          </a:ln>
        </p:spPr>
      </p:pic>
      <p:sp>
        <p:nvSpPr>
          <p:cNvPr id="141" name="Rectangle 3"/>
          <p:cNvSpPr/>
          <p:nvPr/>
        </p:nvSpPr>
        <p:spPr>
          <a:xfrm>
            <a:off x="2428920" y="1240200"/>
            <a:ext cx="6715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зять принят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авить к нему признание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ешать с определенным количеством родительской любви и доступ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авить собственной ответственности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правленной любящим отцовским и материнским авторитетом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8:03:16Z</dcterms:created>
  <dc:creator>Piton</dc:creator>
  <dc:description/>
  <dc:language>en-US</dc:language>
  <cp:lastModifiedBy>Школа №3</cp:lastModifiedBy>
  <dcterms:modified xsi:type="dcterms:W3CDTF">2015-04-08T15:19:25Z</dcterms:modified>
  <cp:revision>96</cp:revision>
  <dc:subject/>
  <dc:title>РОДИТЕЛЬСКОЕ СОБРАНИЕ</dc:title>
</cp:coreProperties>
</file>